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A2BE-B7F1-4B0F-96BD-F56ECBA37E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844-DA4E-4CE9-B3D1-5DF0694E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D30-7EF1-4424-BEB9-0009382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9CA-088E-4A43-B1BD-5C2CBE45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FA6-FD16-4751-9B52-5C69E44E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E42B-E76A-4DAC-87ED-EE9AA7B4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220B-6313-438C-836F-D6F51D3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4A2-55E0-43FD-ACBE-98BE499F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CDD-86AD-49C4-91D8-0D2A098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3DD2-124D-4A88-955F-5DF2EA1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32C4-611E-43D2-B661-D78E690A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ADE7-0224-4AB2-AE79-09B6FEE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C86-FDD8-48F2-B517-B08D7E2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8A8-E1A2-42C5-9914-06ACC3E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0F05-D73A-4AE2-9C0B-415FCC9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BAB-7362-4681-932E-8F41FD08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8F9B-0185-458F-9446-9617D13B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AEF9-6F40-434D-90BF-A5FF97E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227-16F9-45E5-9710-61B1ACD5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1FC-C4C1-409B-A811-34BAF1BF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D4E-B347-4A79-8B5B-A219D6A1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C99-CEFC-4B87-BE07-CE82525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B61-C0AA-4ED7-ACB9-851D6D0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321-E8CA-47E1-8E02-C8E1DA1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7A9-79E3-4100-BA94-CAD0057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BF6-EAA8-4E29-89EA-E90D0A1D007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4CB5-8EF1-4E69-B6E6-FEFAA3F9796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mailto:posgrad@faccat.b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7EE-9DA2-41B0-9202-8237609F5FB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CCAT – Faculdades Integradas de Taquara</a:t>
            </a:r>
            <a:br>
              <a:rPr sz="33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BA 2009 &amp; MBA JÚN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.º Roberto Morais, D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ciplina: Estratégia Com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2E5-C554-44AA-BDE9-DCE0C4F0A61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100" spc="-1" strike="noStrike">
                <a:solidFill>
                  <a:srgbClr val="ffffff"/>
                </a:solidFill>
                <a:latin typeface="Arial"/>
              </a:rPr>
              <a:t>O AMBIENTE COMPETITIV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700280"/>
            <a:ext cx="83534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mbiente macroeconômico: político, legal, social, demográfico, cultural 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447920" y="2971800"/>
            <a:ext cx="6400800" cy="236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666880" y="3124080"/>
            <a:ext cx="37339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 micro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828800" y="3886200"/>
            <a:ext cx="2057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fisticação 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presas 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as op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105520" y="3886200"/>
            <a:ext cx="2057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alidad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cro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267080" y="4343400"/>
            <a:ext cx="609840" cy="30492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09480" y="5562720"/>
            <a:ext cx="75438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ambiente macroeconômico, político, legal e social estável define as condições potenciais para a competitivida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s não são sufici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petitividade depende sobretudo na melhoria das capacidades microeconômicas de uma economia e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 sofist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s empresas loc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6D8-B550-4FD8-B149-ED28A657A60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negociação dos fornecedores(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manifesta na capacidade dos mesmos de elevar os preços ou reduzir a qualidade dos bens e serviços forn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grande quando os compradores tiverem dificuldade em trocar ou utilizar mais de um fornece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Concentração; diferenciação do insumos, custos de mudança relativos; insumos substitutos; importância do volume; diferenci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A98-5542-4BE4-BDB5-20CE15C3334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barganha dos compradores(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tanto maior quanto a importância de suas compras para 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feta a indústria forçando os preços para baixo, exigindo melhorias na qualidade, na compatibilidade dos produtos e nas garant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Concentração de compradores; volume; custos de mudança; sensibilidade de preço; produtos substitutos; informação do comp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A0A-C8B7-4E16-BB21-7D75FE9E556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ssão dos produtos substitutos(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tos que podem desempenhar a mesma função dos produtos de determinada indú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elhor a rel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mpenho-preç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produtos substitutos, maior a pressão sobre o lucro da indú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¹) Preço-desempenho dos produtos; substitutos x concentração de empresas; custos de mudança; propensão do comprador a mudar de fornec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11D-C941-44F3-8A27-09BB113EC25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eaça de novos ent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m ameaça porque geralmente chegam bem capitalizados e com forte intenção de conquistar alguma parcela do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eços podem cair e os custos serem inflacionados, diminuindo a rentabilidade do negó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aspectos que protegem as empresas contra novos entrantes: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(a) barreiras de entrada; (b) expectativa de retaliação por parte dos concorrentes já atuantes no mercado; (c) o preço de entrada dissuasivo. *pró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385-9419-4363-9F4A-31A2EF43FF3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eaças de novos entrantes (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Barreiras de entr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envolve a necessidade de altos investimentos em infra-estrutura, equipamentos, estoques, marketing; altos custos de mudança; alto custo de produção foram da economia de esc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Expectativa de retali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é diretamente proporcional aos recursos de contra-ataque disponíveis nas empresas já participantes do mercado e á ameaça que o novo entrante parece represen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Preço de entrada dissuasi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ocorre quando o preço estimado dos custos necessários para que um novo entrante supere as barreiras de entrada está acima dos preços praticados na indústria, desestimulando a entrada de nov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¹) Economias de escala; identidade da marca; custos de mudanças; exigências de capital; acesso à distribuição; curvas de aprendizagem; tecnologia; política governa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52F-15C4-4C13-AFD9-BCB951DA65B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ivalidade entre os concorrentes(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es envolvidos na alta riv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orrentes numerosos ou bem equili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lento da indústria (jogo de parcela de merc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s fixos ou de armazenamento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sência de diferenciação ou custos de mud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eiras de saída elevadas (posse de ativos especializados; custos fixos de saída como acordos trabalhistas; restrições governamentais; barreiras emocion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Se dá pela disputa por melhor posição no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02F-424F-411B-A509-1D771420EDB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900" spc="-1" strike="noStrike">
                <a:solidFill>
                  <a:srgbClr val="ffffff"/>
                </a:solidFill>
                <a:latin typeface="Arial"/>
              </a:rPr>
              <a:t>Positioning Scholl x Learning Schol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sitioning Schol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ca principalmente os aspectos extrínsecos à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earning Scho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racteriza-se por um pensamento mais focalizado nos aspectos intrínsecos à organização-empresa. O seu principal construto teórico: </a:t>
            </a:r>
            <a:r>
              <a:rPr b="0" lang="pt-BR" sz="2800" spc="-1" strike="noStrike">
                <a:solidFill>
                  <a:srgbClr val="996666"/>
                </a:solidFill>
                <a:latin typeface="Arial"/>
              </a:rPr>
              <a:t>o conceito de competências organiza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B74-35D2-469E-A961-21F1591932E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lman (1996) classifica em 4 categorias: (a) terceirizáveis; (b) rotineiras; (c) essenciais e (d) distin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competência distintiva que gera o diferencial estratégico competitivo e a possibilidade de liderança em um determinad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C5C2-5128-478D-B0A4-A026DD6651C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halad e Hamel (1991) veem as competências organizacionais como raízes da vantagem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são bem desenvolvidas, elas são </a:t>
            </a:r>
            <a:r>
              <a:rPr b="0" lang="pt-BR" sz="2400" spc="-1" strike="noStrike">
                <a:solidFill>
                  <a:srgbClr val="996666"/>
                </a:solidFill>
                <a:latin typeface="Arial"/>
              </a:rPr>
              <a:t>difíceis de serem imit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tem o valor que agregam amplamente percebido pelo consumidor, garantem uma vantagem competitiva inquestionável e proporcionam o acesso potencial da empresa a uma grande variedade de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B10-7792-44C8-9022-BFCB85A7648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ment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mbiente compet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rutura da indústria e as cinco forças de 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atégias competitivas genéricas: tipologias de Porter, Mintzberg, Miles &amp; Snow e tipologia baseada em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ensões da estratégia competitiva e grupos estraté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mpenho organiz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733-F688-47AA-98B4-F75AA2D658D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cordo com Day (1997) existem 5 condições para que uma competência seja uma fonte segura de vantagem competi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dur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r ambiguidade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er facilmente duplic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apta a gerar ret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2B3-869E-4E46-8C60-97649B53254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udo de estratégias competitivas das empresas levou alguns autores a desenvolver tipologias genéricas amplas que permitissem sua aplicação a qualquer empresa de qualquer indústria, em qualquer estágio de desenvolvimento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(Porter, 1980,1985; Mintzberg, 1988; Miles &amp; Snow, 1978, entre out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684-4418-48B1-B949-9D7674CBED5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P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rca 3 estratégias genéricas para enfrentar as cinco forças competitivas e alcançar um desempenho superior aos das outras empresas, a sa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derança no cust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c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356000" y="422100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928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14720" y="4384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com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419640" y="5084640"/>
            <a:ext cx="215640" cy="432000"/>
          </a:xfrm>
          <a:custGeom>
            <a:avLst/>
            <a:gdLst>
              <a:gd name="textAreaLeft" fmla="*/ 0 w 215640"/>
              <a:gd name="textAreaRight" fmla="*/ 77760 w 215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854520" y="5157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nde com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ço Reservado para Número de Slid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0D6-5653-491F-B65D-E5C934A72EE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logia de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114720" y="2612880"/>
          <a:ext cx="4194000" cy="2882880"/>
        </p:xfrm>
        <a:graphic>
          <a:graphicData uri="http://schemas.openxmlformats.org/drawingml/2006/table">
            <a:tbl>
              <a:tblPr/>
              <a:tblGrid>
                <a:gridCol w="2046240"/>
                <a:gridCol w="21477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erança em C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que no C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que na Diferenci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17"/>
          <p:cNvSpPr/>
          <p:nvPr/>
        </p:nvSpPr>
        <p:spPr>
          <a:xfrm>
            <a:off x="3258360" y="208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296320" y="198900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erenc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1476360" y="294480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vo A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1403280" y="452916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vo Res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90360" y="344808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09F-FDB0-41C2-AE4C-F6C8CE0FE88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Liderança no Custo Tot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onto cent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é a empresa fazer com que seu custo total seja menor do que o de seu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Mecanismo de defes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pecialmente no tocante à guerra de pre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ressão dos fornecedor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resa de custo mais baixo terá mais fôlego para continuar na indústria do que seu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Obs: Porter (1980,1985) entende que somente pode existir </a:t>
            </a:r>
            <a:r>
              <a:rPr b="0" i="1" lang="pt-BR" sz="2000" spc="-1" strike="noStrike">
                <a:solidFill>
                  <a:srgbClr val="9966ff"/>
                </a:solidFill>
                <a:latin typeface="Arial"/>
              </a:rPr>
              <a:t>um</a:t>
            </a: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 líder em custo numa indústria (evitar a guerra de preç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A51D-26FB-48F3-A262-F8350D3278A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Liderança no Custo Tot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e colocar em prática a empresa preci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o fácil à matéria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r na construção de instalações para fabricar seu produto ou serviço em escala eficiente e conquistar grande parcela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zir custos através da </a:t>
            </a:r>
            <a:r>
              <a:rPr b="0" i="1" lang="pt-BR" sz="2400" spc="-1" strike="noStrike">
                <a:solidFill>
                  <a:srgbClr val="6666cc"/>
                </a:solidFill>
                <a:latin typeface="Arial"/>
              </a:rPr>
              <a:t>curva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r de forma rigorosa os custos e despes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xugar a área de pesquisa e desenvolvimento, gastos com assistência, vendas e publ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Exemplo: Panasonic (líder de custos na área de produtos eletrônicos de consum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385-BF21-4959-AF4F-D2E00CB1247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supõe que a empresa ofereça, no âmbito de toda a indústria, um </a:t>
            </a:r>
            <a:r>
              <a:rPr b="1" lang="pt-BR" sz="2000" spc="-1" strike="noStrike">
                <a:solidFill>
                  <a:srgbClr val="9966ff"/>
                </a:solidFill>
                <a:latin typeface="Arial"/>
              </a:rPr>
              <a:t>produto(serviço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seja considerado </a:t>
            </a:r>
            <a:r>
              <a:rPr b="1" i="1" lang="pt-BR" sz="2000" spc="-1" strike="noStrike">
                <a:solidFill>
                  <a:srgbClr val="9966ff"/>
                </a:solidFill>
                <a:latin typeface="Arial"/>
              </a:rPr>
              <a:t>ún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elos clientes, ou seja, cujas características o distingam daqueles oferecidos pela concor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nta-se no fato de que podem existir características gerais que são valorizadas, em maior ou menor grau, pela maioria dos segmentos de mercado dentro d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reço </a:t>
            </a:r>
            <a:r>
              <a:rPr b="0" i="1" lang="pt-BR" sz="2000" spc="-1" strike="noStrike">
                <a:solidFill>
                  <a:srgbClr val="9966ff"/>
                </a:solidFill>
                <a:latin typeface="Arial"/>
              </a:rPr>
              <a:t>Prêm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ientes dispostos a pagar mais para terem um produto ou serviço que eles consideram que melhor atende às suas necessidades. (Fidelidade dos consum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7B0-4098-4B8E-8417-60DA7995D01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colocar em prática tal estratégia a empresa preci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r a imagem d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ar a tecnologia envolvida n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rescentar algumas peculia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ferecer produtos sob encom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pliar a rede de 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Google (tecnologia de nave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B1F3-E471-4190-BE0E-8A8E43D7CA9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nfoqu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mpresa procura focalizar seus esforços sobre um determinado grupo, segmento ou mercado geográfico, atendendo a este alvo mais eficaz e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vo, ou escopo estratégico, deve ser suficientemente estreito e pode ser definido sob diversas dimensões: tipo de clientes, linha de produtos, variedade de canal de distribuição, área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xemplo: Ferrari adota uma estratégia de foco na diferenciação. O foco é em consumidores de el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9ED-83F3-492E-B759-D6FD1DE9E66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Meio Termo ou </a:t>
            </a:r>
            <a:r>
              <a:rPr b="0" i="1" lang="pt-BR" sz="2900" spc="-1" strike="noStrike">
                <a:solidFill>
                  <a:srgbClr val="ffffff"/>
                </a:solidFill>
                <a:latin typeface="Arial"/>
              </a:rPr>
              <a:t>“Stuck-in-the-Middle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mpresa que não opta por nenhuma das três estratégias ou investe seus esforços na direção de duas ou três estratégias simultaneamente encontra-se em posição extremamente frágil frente as forças de compet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mpresa nesta posição: possui baixa parcela de mercado e falta de investimentos de capital, possui processos e arranjos organizacionais ambíguos e conflitantes, além de uma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cultura empresa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F8E-479F-4A8E-A5A9-CCD7EAE5E3C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Objetivos da Disciplin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a abordar os conceitos e processos básicos para uma empresa posicionar-se estrategic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onstrar ao aluno que se posicionar corretamente perante os desafios de um ambiente em contínua transformação exige revisões constantes de metas e estratégias em todas as áreas da organ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andir o quadro de referência quanto aos novos modelos de gestão e estratégi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48EC-738E-47EF-AA13-7F27035AD79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Liderança no Custo Tot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 tecnológica que anula o investimento ou o aprendizado anteri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custo do aprendizado por novas empresas ou segui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apacidade de ver a necessidade de mudança no produto ou na imagem devido a importância dada ao cust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lação em custos que restringem a capacidade da empresa de manter o diferencial de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C75-29F7-45F2-A370-F624D46C4CA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a discrepância de preços entre concorrentes de baixo custo (preço significativamente menor rompe a fidelidade dos comprador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ção da necessidade dos compradores do fator de diferenciaçã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dade de imitação da diferenc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F3A-1EA0-4CEB-A020-9B0BEFF92B0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Enfoqu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o diferencial de custos entre os concorrentes que atuam em todo o mercado e as empresas que atuam de forma enfocada (elimina as vantagens de custos de atender um alvo restri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ção entre as diferenças de atendimento do mercado total e do mercado enfocad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sub mercados pela concorrência dentro do mercado enfo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432-1E5B-4A88-B427-534B4F5D34F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Mintzberg (19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entende que a maioria das tipologias estratégicas explicitadas são falhas, seja por focarem de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forma muito estreita em alguns tipos especiais de estratég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eja por proporem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agregações arbitr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va tipologia derivadas a partir do conceito de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diferenc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com nível de detalhamento maior que as estratégias de Porter (1980,198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2EA-0C44-4970-B278-E067106A9BE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Mintz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pre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su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iferenc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4C1-5EA2-4DB9-80AC-FDEAEBD3298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Diferenciação por Preç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r o preço de um determinado produto mantendo os outros atributos semelhantes aos dos produtos concorrentes d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r poderia obter lucros maiores do que os concorrentes se o aumento da parcela de mercado compensasse a queda da margem bruta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dutor conseguisse otimizar a produção a tal ponto que seu custo de produção ficasse abaixo daquele de seu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52E-54F3-4BAF-8370-5AA81FEBE46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Imag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mpresa pode se destacar das outras ao diferenciar a imagem do seu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pode ser conseguido através de investimentos em propaganda, marketing, promoções, alterações de embalagens, ou inclusão de detalhes que, embora não melhorando o desempenho do produto, o tornam mais atrativo para algun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nalização de valor (Porter, 1985)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atiza a importância dos detalhes quando os compradores não são capazes de discernir inteiramente as diferenças e as semelhanças entre produto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 preço mais alt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pode ser utilizado como elemento realçador da im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11A-72A9-407E-B081-E19BEE6BFEB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Supor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 estar diretamente ligada aos atributos do produto (intrínsecos), a diferenciação por suporte envolve a agregação de valor via </a:t>
            </a:r>
            <a:r>
              <a:rPr b="0" i="1" lang="pt-BR" sz="2400" spc="-1" strike="noStrike">
                <a:solidFill>
                  <a:srgbClr val="9999ff"/>
                </a:solidFill>
                <a:latin typeface="Arial"/>
              </a:rPr>
              <a:t>serviços perifér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sistência técnica, financiamento, menor prazo de entrega, manutenção, garantia ou com a oferta de produtos complemen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B9C1-31CB-48B1-9773-0D1EABCEE04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Qualida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estratégia se caracteriza por oferecer (em nível de paridade de preço e custo ou a um custo mais alto compensado por preço de mercado também mais alto) um produto que, embora não fundamentalmente diferente, é melhor que o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 pode ser considerado melhor em </a:t>
            </a:r>
            <a:r>
              <a:rPr b="0" lang="pt-BR" sz="2400" spc="-1" strike="noStrike">
                <a:solidFill>
                  <a:srgbClr val="9999ff"/>
                </a:solidFill>
                <a:latin typeface="Arial"/>
              </a:rPr>
              <a:t>três dimen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confi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enor probabilidade de falhas);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maior dur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desempenho sup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27F0-A3C4-4999-B7B9-8941E30AA16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</a:t>
            </a:r>
            <a:r>
              <a:rPr b="0" i="1" lang="pt-BR" sz="2500" spc="-1" strike="noStrike">
                <a:solidFill>
                  <a:srgbClr val="ffffff"/>
                </a:solidFill>
                <a:latin typeface="Arial"/>
              </a:rPr>
              <a:t>Design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(Projeto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ferecer no mercado um produto diferente dos demais concorrentes e não apenas melhor (diferenciação por qua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 apresentaria um visual ou funcionalidade diferente do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2AFA-5E02-49B6-9AFE-58243128B19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Cronograma de Atividades da Discipli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1/09 – Apresentação da disciplina. Estratégia. Ambiente competitivo. 5 Forças competitivas (Porter). Competências organizacionais. (Slides 01 ao 19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Estudo de cas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(¹) O desenvolvimento vem com novos investimentos. (²) Cervejaria Águia S/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/09 – Estratégias competitivas genéricas: Tipologia de Porter. (slides 20 ao 31). 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as estratégias em nível empresa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8/09 – Estratégias competitivas genéricas: Tipologias de Mintzberg e Miles &amp; Snow. (Slides 32 ao 45). Leitura recomendada: Referencial teórico(PUC-Rio; páginas 35 a 44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ortamento estratégico através da tipologia de Miles &amp; S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9/09 – Estratégias competitivas genéricas: Tipologia baseada em recursos. Dimensões da estratégia competitiva. Grupos estratégicos. (Slides 46 a 54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identificar os recursos estratégic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 – Desempenho organizacional. (Slides 55 a 7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/09 – Desempenho organizacional. (Slides 72 a 96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dicadores de desempenho.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714-0015-4D6A-A4CA-AFB4AFDDB30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Não 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omo foco a possibilidade de uma empresa imitar inovações de empresas concorrentes, desde que haja espaço no mercado para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atégia de não diferenciação assemelha-se ao conceito de meio-termo desenvolvido por Porter (198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(198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que a estratégia pode ser desenvolvida explicit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condena a estratégia a um desempenho inferior ao das demais estratég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5D1-5C48-4A33-B0D4-3265F13C230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de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Miles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avaliar a adaptação organizacional às mudanças do ambiente por meio do estudo da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re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estratégia, estrutura e proces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straté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da pelo domínio produto-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strutura e Proces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ecanismos através dos quais se implementa a estraté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993300"/>
                </a:solidFill>
                <a:latin typeface="Arial"/>
              </a:rPr>
              <a:t>Ciclo adapta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daptação da estratégia ao ambiente competitivo. Suas etapas consistem nas soluções dadas aos seguinte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051-872B-4ABC-B415-BF592868328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Empresa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omínio produto-mercado; postura de sucesso; monitoração do ambiente e política de cres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Tecnológicos/Produ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jetivos tecnológicos; amplitude tecnológica e orientação tecn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Administrativos/Estrutur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unção administrativa dominante; atitude de planejamento; estrutura organizacional e cont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01F-07D8-4457-B806-4402BAE6FE5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Categorias Estratégicas: Prosp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otam postura agressiva em busca de novas oportunidades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Investem alto em pesquisa e desenvolv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dquirem empresas menores com novos negócios ou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Geralmente iniciam mudanças na indústria em que atu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mpliam continuamente o domínio produto-mercado (diferenciação ou baixo cus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Tecnologia é diversificada, flexível e pouco padron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Controle não central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Departamento forte de 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mplo planej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Desempenho avaliado em função do </a:t>
            </a:r>
            <a:r>
              <a:rPr b="0" i="1" lang="pt-BR" sz="1600" spc="-1" strike="noStrike">
                <a:solidFill>
                  <a:srgbClr val="003300"/>
                </a:solidFill>
                <a:latin typeface="Arial"/>
              </a:rPr>
              <a:t>market share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olume de vendas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F97-B6A1-4EDA-A9C3-84B48EDEB10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Categoria Estratégica: Def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otam postura quase que oposta aos prospectores, pois procuram defender e garantir a posição em que se encontram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petem nas dimensões de preço e qua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otam uma linha de produtos limitada, segmentada e mais luc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m uma tecnologia principal, gerando baixo custo na prod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mentos significativos em P&amp;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gração vert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ministração rigorosa, controlada e centralizada, voltada para custos e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so da comparação dos indicadores financeiros e produtivos do ano com os ano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0F1-3B87-4D30-933E-D7E819D72E1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Categoria Estratégica: Analis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Buscam novos mercados e produtos, mas garantem seus produtos e mercados atuais. São também chamadas de ‘imitadores criativos’, por absorverem e melhorarem inovações dos concorrentes. </a:t>
            </a:r>
            <a:r>
              <a:rPr b="0" lang="pt-BR" sz="2000" spc="-1" strike="noStrike" u="sng">
                <a:solidFill>
                  <a:srgbClr val="003300"/>
                </a:solidFill>
                <a:uFillTx/>
                <a:latin typeface="Arial"/>
              </a:rPr>
              <a:t>Soluções para os proble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Monitoramento constante dos sucessos e fracassos das empresas prospectoras concor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Tecnologia adota é estável e padron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Organizam sua estrutura de forma matr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Engenharia de produto e marketing são os principais focos de atenção e invest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AE9D-91D9-4E63-B660-0204A08F9D2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Categoria Empresarial: Contra Atacantes (Re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 reagem às ações das outras empresas quando são forç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conseguem definir uma estratégia específica em função de um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líder centraliz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u pel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contrad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ntre a estratégia escolhida e a estrutura organizacional adotada ou pel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não adap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estratégia ao ambiente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r seu processo produtivo, a rede de distribuição e logística, a política de preços, os esforços de promoção e marketing e demais processos envolvidos de forma a apoiar a postura selecionada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362-BD8C-4FE1-821F-E51B87021F2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década de 1980, o principal foco da análise estratégica foi a ligação entre o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ambiente exte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 estrutura da indústria),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a estraté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consequente desempenho das empresas, sendo praticamente desprezada a relação entre os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recursos e competê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empresa e sua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escolha estraté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D96-8FA7-4BBB-8E0A-D0163A2F9CF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estudos empíricos (Cubbin e Geroski, 1996; Rumelt, 1991; Prahalad e Hamel, 1990) mostram que a influência das características das empresas sobre suas rentabilidades relativas e muito mais significativa do que a influência da indústria à qual as empresas pertenc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s autores estudaram as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característic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árias dos recursos para que estes se tornassem uma fonte de vantagem competitiva sustentável, 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influência das barreiras de imitação sobre as diferenças de rentabilidade entre as empresas, 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o papel da história da empresa na obtenção e desenvolvimento de competências organizacionais criticas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6666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6666cc"/>
                </a:solidFill>
                <a:latin typeface="Arial"/>
              </a:rPr>
              <a:t>importância das diferenças das rotinas organizacionais para explicar as diferenças de rentabilidade entre as empresas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E7E-2CAF-4C5E-B1C6-D70444D4D2C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BV fornece uma análise mais consistente das forças e fraquezas da empresa, pois introduz um entendimento superior das condições para a empresa obter uma vantagem competitiva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o enfoque da RBV, a origem básica da rentabilidade da empresa são alguns recursos valiosos, escassos, sem substitutos e de difícil imi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ta visão, a estratégia competitiva é a arte de criação, acumulação e utilização destes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04D8-FFAD-4CF7-B369-B3C95A37FC5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l objetivo das empresas: desempenho superior susten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variáveis para a compreensão deste fenômeno: a) a estrutura da indústria(¹); b) o ambiente competitivo; c) os processos organizacionais; d) as estratégi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¹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conceito de indústria utilizado segue definição de Porter (1979:215): “grupo de competidores produzindo substitutos similares o suficiente para fazer com que o comportamento de uma empresa afete cada uma das demais, direta ou indiretament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34CF-C66A-4617-93CA-937D09FDFDC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lang="pt-BR" sz="2500" spc="-1" strike="noStrike">
                <a:solidFill>
                  <a:srgbClr val="0066ff"/>
                </a:solidFill>
                <a:latin typeface="Arial"/>
              </a:rPr>
              <a:t>Resource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inção entre Recursos e Compet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: seriam elementos básicos, não específicos, que podem ser adquiridos ou imitados em certo grau, tais como equipamentos, recursos financeiros, tecnologia, mar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etências: seriam elementos de nível superior, específicos da empresa, resultantes do aprendizado organizacional e da combinação única de vári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etências Essenciais (</a:t>
            </a:r>
            <a:r>
              <a:rPr b="0" i="1" lang="pt-BR" sz="2000" spc="-1" strike="noStrike">
                <a:solidFill>
                  <a:srgbClr val="6666cc"/>
                </a:solidFill>
                <a:latin typeface="Arial"/>
              </a:rPr>
              <a:t>Core Competencies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: são o aprendizado coletivo da organização, especialmente de como coordenar diversos recursos e tecnolo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E9B-E028-45BE-8212-86CF18F530D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BV sugere que a formulação da estratégia seja iniciada pela identificação dos recursos e competências existentes na empresa (interno), seguida pela avaliação da sustentabilidade da vantagem competitiva que eles podem proporcionar, para então escolher a estratégia que melhor utilize esses recursos e competências para explorar as oportunidades e/ou neutralizar as ameaças do seu ambiente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C18-F4EC-4A49-8321-D7A95F1303C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halad e Hamel (1990) consideram que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apenas no curto praz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vantagem competitiva de uma empresa deriva dos atributos de preço e desempenho de seus produtos, pois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no longo praz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a seria decorrente da capacidade de desenvolver internamente, ao menor custo e mais rapidamente que os concorrentes, as competências que permitem a criação de muitos produtos no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3716-04F7-4C1C-B930-E2E04179467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mensões da Estratégia Competitiva (Porter,1996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u de especi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de mar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de distribuição (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ção dos canais de 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idade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deranç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ção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ição de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de 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u de alavanc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cionamento com 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cionamento com os governos do país de origem e anfitri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B4C-EF8D-42BC-B0CB-59F626F7738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GRUPOS ESTRATÉGIC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s de empresas que utilizam estratégias idênticas ou semelhantes numa mesm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xistência não é certa, mas prov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a análise permite uma visão intermediária entre a global (da indústria) e a individual (de cada empres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grupos estratégicos também tem em comum a relação com as 5 Forças. O poder de negociação com compradores, fornecedores e a suscetibilidade a certos produtos substitutos tende a ser semelhante entre as empresas de um determinad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662-6DCF-43FB-9E18-562F35CE3E5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GRUPOS ESTRATÉGIC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esença de mais de um grupo estratégico em uma indústria influencia diretamente a rivalidade entre os concorrentes cuja intensidade de interrelação pode ser determinada em função de 4 fa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rdependência no mercado entre os grupos ou o grau de interdependência dos clientes vis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u de diferenciação atingida pelos gru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antidade e tamanho dos grupos estratégicos; e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anciamento estratégico entre os gru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E90-2CF5-4980-90B5-7C6B3F63EEC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08440" y="2997360"/>
            <a:ext cx="89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ESEMPENH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502-9322-4295-9791-3BC7E4F5CCE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grupos de clientes da infor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acionistas, instituições financeiras, entidades governamentais, sindicatos, etc.): informações geradas pela contabilidade financeira e complementada pelas técnicas de análise de demonstrações financei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administradores o grupo mais importante de usuári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B38-E7C2-4A06-AD5F-D2C2BB5F1AF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a serem discutidos na avaliação de desempen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qu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331D-9F50-453E-9C67-3CDF99503D2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QUE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a organização precisa ter um processo contínuo de avaliação do seu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você não pode medir, então não pode control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ação a ser implementada em uma empresa precisa de um acompanhamento para saber se está em consonância com a mi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32B-70C1-4CE0-9A2D-968AEC74298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a de pensam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source Bas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ugere que os principais fatores envolvidos no alcance do desempenho superior são: as pessoas, a cultura e o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Cj04375270000[1]"/>
          <p:cNvPicPr/>
          <p:nvPr/>
        </p:nvPicPr>
        <p:blipFill>
          <a:blip r:embed="rId1"/>
          <a:stretch/>
        </p:blipFill>
        <p:spPr>
          <a:xfrm>
            <a:off x="5686560" y="2176560"/>
            <a:ext cx="21445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8CC-9DDC-4A25-8915-3F147F6C520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istemas de medição de desempenho dev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ar as atividades operacionais da empres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imentar os sistemas de incentivo dos funcionári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uzir estratégias competitiv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AE9D-B9D7-425C-A50F-03AA85E2205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r problemas que necessitem intervenção dos gesto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r se a missão da empresa está sendo atingida (esta resume todas as dema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E2C7-2146-4CC6-84F8-4CE17A1D30F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M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dos principais problemas da avaliação de desempenho é a definição precisa do que se quer m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um modo geral, quando falamos em avaliar desempenho, estamos nos referindo à verificação da realização de um objetivo ou 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8CD-7B9C-4F46-A4B1-48458B81B63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valiarmos o desempenho de uma empresa é preciso definir quais os atributos importantes da medição do desempenho e compará-los com características que julgamos importantes em relação a um objetivo que defin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passado as empresas utilizavam exclusivamente análise financ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E447-5683-4D3C-B1B5-16DD7E0BD6F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edidas financeiras mais comuns: retorno sobre as vendas, o lucro, retorno sobre o investimento, variação dos preços, vendas por empregados, o lucro por unidade de produção, produtividad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elo DuPon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BIT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54B-C677-4BDD-992B-5FDCD1D7221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tradicionais apresentam falta de flexibilidade, inadequação face ao novo ambiente competitivo, rápida desatualização e dificuldades de quantificação dos melhoramentos em termos monetários (reduçã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ead-ti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satisfação do cliente, qualidade do produ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2F3-4C55-45B8-B248-F0BB6304309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financeiras não são suficientes, pois só habilitam os tomadores de decisão a reagir ao que já acontec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não possuem capacidade preditiva (a tomada de decisão deve ser proati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ajudam os gestores a reagirem ao que já acontec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8F0-9E2C-41CC-86D7-D81EF58E338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tradicionais são apenas indicadoras do sucesso da organização, não permitindo identificar a contribuição de cada uma das diferentes áreas da empresa para esse su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2764-0F76-4A0B-9AEC-2924A2E87E8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utilidade da informação é determinada por sua relevância quanto a seus próprios objetivos, sua oportunidade, sua precisão e forma de sua apresent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A88-1834-4D06-9AC2-54F275CBB76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preciso definir o conjunto de indicadores que irá operacionalizar a medição de desempenho, ou seja, as medidas que irão ser usadas no sistema de diagnóstico do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medida de desempenho comparativa usada para responder a questã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o nós estamos indo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(Harbo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170-D033-485E-A154-D389A362D45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estratégia vem do greg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rateg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significa “a arte do general” (Evered, 198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(1987) identificou o que chamou de 5 P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an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o de 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ay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o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ttern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sitio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osicion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spective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sp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708360" y="3860640"/>
            <a:ext cx="142920" cy="64800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908160" y="39528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ncion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84720" y="4581360"/>
            <a:ext cx="142920" cy="71928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56520" y="467352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ergente ou não int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9EB-995A-4DB0-A2AC-C6C82F2A241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 de Projeto de Sistemas de Controle de Desempenho (SCD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 metodologia pressupõe duas fases distintas de pro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rimeira compreende a definição do que deverá estar contido no SCD, conhecida como fase de especificação dos requisitos. Esta fase corresponde, basicamente, à definição das medidas de desempe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segunda fase deve deliberar sobre como essas informações serão obt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A57-7A9E-4BEB-89F5-CFDCDA64B77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ase de Especificação dos Requisitos do SCD: Definição das Medidas de Desempe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dobramento das Vertentes Estratégicas Prioriz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da declaração de mi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verá haver um detalhamento da declaração de missão, seus objetivos e os objetivos de cada área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3314-BD8D-4299-87D8-E491B744810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 derivação dos indicadores é necessário o estabelecimento do plano de 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990720" y="3048120"/>
            <a:ext cx="7238880" cy="3429000"/>
            <a:chOff x="990720" y="3048120"/>
            <a:chExt cx="7238880" cy="3429000"/>
          </a:xfrm>
        </p:grpSpPr>
        <p:sp>
          <p:nvSpPr>
            <p:cNvPr id="338" name="Text Box 5"/>
            <p:cNvSpPr/>
            <p:nvPr/>
          </p:nvSpPr>
          <p:spPr>
            <a:xfrm>
              <a:off x="2225520" y="333720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Planejamento Estraté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2845080" y="4156560"/>
              <a:ext cx="16534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2225520" y="488988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Fatores Críticos de Suces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8"/>
            <p:cNvSpPr/>
            <p:nvPr/>
          </p:nvSpPr>
          <p:spPr>
            <a:xfrm>
              <a:off x="2225520" y="595188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Indicadores de Desempen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5946840" y="5380560"/>
              <a:ext cx="18622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Plano de 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990720" y="3048120"/>
              <a:ext cx="723888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3569040" y="3828240"/>
              <a:ext cx="206640" cy="244800"/>
            </a:xfrm>
            <a:prstGeom prst="downArrow">
              <a:avLst>
                <a:gd name="adj1" fmla="val 50000"/>
                <a:gd name="adj2" fmla="val 296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"/>
            <p:cNvSpPr/>
            <p:nvPr/>
          </p:nvSpPr>
          <p:spPr>
            <a:xfrm>
              <a:off x="3569040" y="4563360"/>
              <a:ext cx="206640" cy="244800"/>
            </a:xfrm>
            <a:prstGeom prst="downArrow">
              <a:avLst>
                <a:gd name="adj1" fmla="val 50000"/>
                <a:gd name="adj2" fmla="val 296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3"/>
            <p:cNvSpPr/>
            <p:nvPr/>
          </p:nvSpPr>
          <p:spPr>
            <a:xfrm flipH="1" rot="5400000">
              <a:off x="4007160" y="4239000"/>
              <a:ext cx="571320" cy="26884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FA18-5A5D-4FFB-9184-ADA095BC591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Modelo do Processo de Controle em 6 Etapas e a Definição d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tap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efinição das Variáveis-Chaves: a partir da análise dos fatores críticos de sucesso devem ser definidas as variáveis-chaves que explicitam o que deverá ser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100A-02D7-419F-A4EC-0ADA57FB876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tap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finição do que será medido (indicadores de desempenho)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imeiramente deve ser definido o que se deseja controlar, ou seja, a variável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variável-chave refere-se a um aspecto ou característica teórica que se considera como sendo relevante para assegurar o êxito de uma organiz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m outras palavras, trata-se do fator a ser controlado para monitorar se o sucesso está ou não sendo alcanç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dor de desempenho, definido na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tapa,  é prático. Trata-se de um instrumento empírico que permite representar a dimensão teórica de uma variável-ch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B68-5727-463E-BB45-037876B908E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e padr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sta etapa são definidos os padrões e metas, ou seja, os valores estabelecidos como referência para análise das med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emente de serem assumidos padrões internos (como ocorre num sistema de custo-padrão) ou de serem trazidos valores de seu ecossistema (atravé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u de índices macroeconômicos), esta etapa deve deixar claro como tais informações serão obtidas.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5ADC-4060-4B42-9CE5-E8778016245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nsur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sa etapa tem seu grau de dificuldade inversamente proporcional à qualidade dos sistemas de informação utiliz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são usados sistemas de informação formais projetados com adequadas tecnologias de informática, empregadas principalmente na automação dos apontamentos dos valores medidos, o processo é bastante simplifi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ma boa definição das variáveis-chaves facilita a composição do quadro de indicadores, assim como o projeto do sistema de informação que deverá possibilitar sua mensuração periódic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D71-8E6E-4638-BC21-A36282F8208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nessa etapa é realizada a análise do confronto entre o medido e os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ção corretiv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nessa etapa são implantados os planos de ação (corretivos ou de aprendizagem positiva). O processo de execução ou os próprios objetivos podem ser corri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7052-C806-4030-B658-4CB711A29E0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colha do Conjunto de Indicadores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escolha dos indicadores, que comporão o conjunto equilibrado de medidas, deve considerar alguns critérios pragmá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C63-A082-4FB3-9D26-1E352C1F725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Relevância do Indic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número de indicadores deve ser de tamanho ideal para que o foco seja mantido. Em geral, após uma listagem inicial de vários indicadores, deverão ser priorizados aqueles que comporão o painel de cont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onjunto de medidas selecionadas, geralmente, são mantidas as medidas financeiras e outras com as quais a organização está habitu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time de desenvolvimento do SCD envidará esforços para incluir no conjunto de medidas todas aquelas que controlam a consecução das metas derivadas da estratégia de negó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69E-B434-4248-A856-03AB579BF49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s de Pensamento (Mintzberg, 1999) – vejamos as princip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da análise SW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ann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eck lists, análises operacionais e planos de 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ition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ões genéricas selecionadas – Por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12AA-C086-4603-ACD3-FF723182DBD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2: Ausência de Ambigü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efinição do indicador deve ser isenta de ambigüidades. Quando o indicador for definido como um índice, deve ser clara a sua fórmula de cálculo. Pode ser tomado como exemplo um dos indicadores definidos pela Anatel, trata-se do índice de reclamação de cobertura e congestionamento pelo número de telefones celulares instal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(A+B)/C,  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= Nº de reclamações de cobertura no mê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= Nº de reclamações de congestionamento no mê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= Nº de telefones celulares instalados no mê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D868-002A-49D5-84FA-6CA5ED0A0C9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 Neutral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umas empresas opõem-se fortemente ao uso de informações obtidas através de respostas de clientes e de empregados, argumentando que tais fontes possuem excessivo nível de subjetividade; outras empresas usam tais informações, desde que sua obtenção e agregação sejam feitas de maneira consist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EC0-66D0-4485-B149-A93601AF4DA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4:  Uso de Indicadores de 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aioria das abordagens  de definição de SCD permitem a inclusão de indicadores de atividades quando os indicadores de resultado forem de difícil obtenção, ou seja, quando não existirem indicadores que possam ser vinculados de forma incontestável aos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indicadores  de atividades ou de processos podem sinalizar que será obtida a saída desejada, sendo denominados também de indicadores de tend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457-1C6E-46B2-8E29-CF0F13EC741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0160" y="1674360"/>
            <a:ext cx="74836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quadro abaixo apresenta exemplos de indicadores de resultado e de indicadores de ativ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2971800"/>
          <a:ext cx="7631280" cy="3535200"/>
        </p:xfrm>
        <a:graphic>
          <a:graphicData uri="http://schemas.openxmlformats.org/drawingml/2006/table">
            <a:tbl>
              <a:tblPr/>
              <a:tblGrid>
                <a:gridCol w="3886200"/>
                <a:gridCol w="37450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de 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dicadores de ocorrê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de Atividades ou e Proces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dicadores de tendê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 de automóveis produz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e da linha de produ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retenção de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ção dos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gerada por novos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clo de desenvolvimento de novos produ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9453-4B7A-44D1-8A7F-69BD8C77EB3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5: Qualidade e Disponibilidade d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gundo esse critério, a qualidade do indicador é analisada através das segui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urácia (procedimento de diagnóstico), precisão, clareza, e v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nível insatisfatório de qualidade pode causar a rejeição do indicador. Não existe justificativa para a inclusão de indicadores que não estarão periodicamente disponíveis ou cuja acurácia seja susp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22A-1B66-4B92-B3BE-E805393223A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1197000"/>
          <a:ext cx="8964720" cy="660240"/>
        </p:xfrm>
        <a:graphic>
          <a:graphicData uri="http://schemas.openxmlformats.org/drawingml/2006/table">
            <a:tbl>
              <a:tblPr/>
              <a:tblGrid>
                <a:gridCol w="1143000"/>
                <a:gridCol w="5410080"/>
                <a:gridCol w="2411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é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             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0" y="1833480"/>
          <a:ext cx="8964720" cy="5029200"/>
        </p:xfrm>
        <a:graphic>
          <a:graphicData uri="http://schemas.openxmlformats.org/drawingml/2006/table">
            <a:tbl>
              <a:tblPr/>
              <a:tblGrid>
                <a:gridCol w="1158840"/>
                <a:gridCol w="5489640"/>
                <a:gridCol w="461880"/>
                <a:gridCol w="463680"/>
                <a:gridCol w="463320"/>
                <a:gridCol w="463680"/>
                <a:gridCol w="46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m tem o dado? Está disponível no momento? Será necessário um novo software para disponibilizá-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rá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nfi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?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nsistente meses ap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meses? A alte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ç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o de seus valores refletem alte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ç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ões das atividades a ela relacionadas? Existem ru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ão aritm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a, mas 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ca. Est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endo medido o que necessita ser medido? Est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endo focado o n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 correto de an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de f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l entendimento? Todos os empregados vão entendê-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traduz o que necessita ser mensurado, ou somente o que pode ser mensura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66640" y="313920"/>
            <a:ext cx="728352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Check-list para determinação da qualidade e disponibilidade dos indicador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64"/>
          <p:cNvSpPr/>
          <p:nvPr/>
        </p:nvSpPr>
        <p:spPr>
          <a:xfrm>
            <a:off x="7380360" y="155736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DCF-056E-4E25-9777-32B8E60F0BB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di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eve ser focada sobre quatro aspectos b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Determinar quais os processos agregam valor o para a empresa e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Determinar como uma parte do valor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erdida com custos altos, erros, inconsistências, retrabalhos ou treinamento inadequ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Reduzindo o tempo necess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 para transformar uma entrada numa sa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d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Defini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m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 onde o hiato(lacuna) de desempenho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entu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CAEF-0C30-4D3B-A518-308D12AB337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320" y="1171440"/>
          <a:ext cx="9067680" cy="5051520"/>
        </p:xfrm>
        <a:graphic>
          <a:graphicData uri="http://schemas.openxmlformats.org/drawingml/2006/table">
            <a:tbl>
              <a:tblPr/>
              <a:tblGrid>
                <a:gridCol w="1076040"/>
                <a:gridCol w="998640"/>
                <a:gridCol w="922320"/>
                <a:gridCol w="844560"/>
                <a:gridCol w="870120"/>
                <a:gridCol w="792000"/>
                <a:gridCol w="647640"/>
                <a:gridCol w="649440"/>
                <a:gridCol w="574560"/>
                <a:gridCol w="505080"/>
                <a:gridCol w="650880"/>
                <a:gridCol w="5364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ns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mpen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-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-de de Me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-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/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/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orno 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 / 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 mé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dim.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.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d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ate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p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.tota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n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hs.treinam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hs.treinam/N.func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3342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edidas de Desempenho Organizacion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84"/>
          <p:cNvSpPr/>
          <p:nvPr/>
        </p:nvSpPr>
        <p:spPr>
          <a:xfrm>
            <a:off x="6372360" y="3068640"/>
            <a:ext cx="380880" cy="72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5"/>
          <p:cNvSpPr/>
          <p:nvPr/>
        </p:nvSpPr>
        <p:spPr>
          <a:xfrm>
            <a:off x="6372360" y="2133720"/>
            <a:ext cx="380880" cy="647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6"/>
          <p:cNvSpPr/>
          <p:nvPr/>
        </p:nvSpPr>
        <p:spPr>
          <a:xfrm>
            <a:off x="8604360" y="3141720"/>
            <a:ext cx="380880" cy="770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7"/>
          <p:cNvSpPr/>
          <p:nvPr/>
        </p:nvSpPr>
        <p:spPr>
          <a:xfrm>
            <a:off x="8604360" y="2060640"/>
            <a:ext cx="380880" cy="79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8"/>
          <p:cNvSpPr/>
          <p:nvPr/>
        </p:nvSpPr>
        <p:spPr>
          <a:xfrm>
            <a:off x="6372360" y="4005360"/>
            <a:ext cx="38088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9"/>
          <p:cNvSpPr/>
          <p:nvPr/>
        </p:nvSpPr>
        <p:spPr>
          <a:xfrm>
            <a:off x="8604360" y="4076640"/>
            <a:ext cx="3808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0"/>
          <p:cNvSpPr/>
          <p:nvPr/>
        </p:nvSpPr>
        <p:spPr>
          <a:xfrm>
            <a:off x="6443640" y="5157720"/>
            <a:ext cx="3808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91"/>
          <p:cNvSpPr/>
          <p:nvPr/>
        </p:nvSpPr>
        <p:spPr>
          <a:xfrm>
            <a:off x="8604360" y="5084640"/>
            <a:ext cx="38088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5A8-DB42-48B1-B738-1A0CDFE95AC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219320" y="2057400"/>
            <a:ext cx="6937200" cy="3732120"/>
            <a:chOff x="1219320" y="2057400"/>
            <a:chExt cx="6937200" cy="3732120"/>
          </a:xfrm>
        </p:grpSpPr>
        <p:sp>
          <p:nvSpPr>
            <p:cNvPr id="408" name="Rectangle 4"/>
            <p:cNvSpPr/>
            <p:nvPr/>
          </p:nvSpPr>
          <p:spPr>
            <a:xfrm>
              <a:off x="1219320" y="205740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1219320" y="2057400"/>
              <a:ext cx="6937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004056"/>
                  </a:solidFill>
                  <a:latin typeface="Tahoma"/>
                </a:rPr>
                <a:t>Solução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Utilizar as componentes «Management Cockpit» e «Balanced Scorecard» do SEM (</a:t>
              </a:r>
              <a:r>
                <a:rPr b="0" i="1" lang="pt-BR" sz="3200" spc="-1" strike="noStrike">
                  <a:solidFill>
                    <a:srgbClr val="004056"/>
                  </a:solidFill>
                  <a:latin typeface="Tahoma"/>
                </a:rPr>
                <a:t>Strategic Entreprise Management</a:t>
              </a: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), que funcionam com base na ferramenta de Datawarehouse da SAP (BW)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92A-4CE3-406E-B4BA-5233B4CAB37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ockpit2_%20DSC04731-X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841-3E5B-4119-B0A6-35CF24DEF15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Porter (1985), a empresa alcança uma vantagem competitiva sustentável caso consi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or custo do que a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produzir algo diferente (preç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em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89CA-5414-4C01-B95D-F1C8ECF80D2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3"/>
          <p:cNvGrpSpPr/>
          <p:nvPr/>
        </p:nvGrpSpPr>
        <p:grpSpPr>
          <a:xfrm>
            <a:off x="1066680" y="2362320"/>
            <a:ext cx="6937200" cy="641160"/>
            <a:chOff x="1066680" y="2362320"/>
            <a:chExt cx="6937200" cy="641160"/>
          </a:xfrm>
        </p:grpSpPr>
        <p:sp>
          <p:nvSpPr>
            <p:cNvPr id="415" name="Rectangle 4"/>
            <p:cNvSpPr/>
            <p:nvPr/>
          </p:nvSpPr>
          <p:spPr>
            <a:xfrm>
              <a:off x="1066680" y="236232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066680" y="2362320"/>
              <a:ext cx="6937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s 25 indicadores disponibilizados foram extraídos de diversos sistemas da Bandeirante Energia, nomeadamente do SAP R/3 e dos sistemas técnicos e comerciais da empresa, que trabalham ainda em ambiente mainfram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AF91-A5E4-4444-9C0D-B21CCE2FE08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ockpit2_DSC04708-X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A8F7-4929-4B98-9E4D-BFC32A253AF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1103400" y="2057400"/>
            <a:ext cx="6937200" cy="733320"/>
            <a:chOff x="1103400" y="2057400"/>
            <a:chExt cx="6937200" cy="733320"/>
          </a:xfrm>
        </p:grpSpPr>
        <p:sp>
          <p:nvSpPr>
            <p:cNvPr id="422" name="Rectangle 4"/>
            <p:cNvSpPr/>
            <p:nvPr/>
          </p:nvSpPr>
          <p:spPr>
            <a:xfrm>
              <a:off x="1103400" y="205740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5"/>
            <p:cNvSpPr/>
            <p:nvPr/>
          </p:nvSpPr>
          <p:spPr>
            <a:xfrm>
              <a:off x="1103400" y="2057400"/>
              <a:ext cx="693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004056"/>
                  </a:solidFill>
                  <a:latin typeface="Tahoma"/>
                </a:rPr>
                <a:t>Funcionamento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O Management Cockpit é alimentado pela base de informação armazenada no BW, visualizada através das possibilidades analíticas e gráficas do SE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Estas informações ficam disponíveis em qualquer computador ligado à rede corporativa da empresa</a:t>
              </a: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12CC-F2A2-4D4B-B92B-B2FE37C512B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609480" y="1828800"/>
            <a:ext cx="8229240" cy="825480"/>
            <a:chOff x="609480" y="1828800"/>
            <a:chExt cx="8229240" cy="825480"/>
          </a:xfrm>
        </p:grpSpPr>
        <p:sp>
          <p:nvSpPr>
            <p:cNvPr id="427" name="Rectangle 4"/>
            <p:cNvSpPr/>
            <p:nvPr/>
          </p:nvSpPr>
          <p:spPr>
            <a:xfrm>
              <a:off x="609480" y="1828800"/>
              <a:ext cx="822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609480" y="1828800"/>
              <a:ext cx="822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Na sala do Cockpit, estes indicadores são apresentados de acordo com a seguinte lóg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de frente para quem entra na sala está uma parede preta (Financeira), que reflete os resultados da empresa e aponta os principais obstáculo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do lado direito, a parede vermelha (Clientes e Mercado) aponta a posição da Bandeirante em relação ao mercado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à esquerda, a parede Azul (Recursos Internos/Processos) exibe índices administrativos internos; e, por fim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a restante parede branca (Aprendizado e Crescimento) reflete as perspectivas de cresciment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83E6-0613-4750-8DA9-89468F046A3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cocpit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04E-9C4F-4D06-94D7-B3D199307C4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1103400" y="2438280"/>
            <a:ext cx="6937200" cy="549360"/>
            <a:chOff x="1103400" y="2438280"/>
            <a:chExt cx="6937200" cy="549360"/>
          </a:xfrm>
        </p:grpSpPr>
        <p:sp>
          <p:nvSpPr>
            <p:cNvPr id="434" name="Rectangle 4"/>
            <p:cNvSpPr/>
            <p:nvPr/>
          </p:nvSpPr>
          <p:spPr>
            <a:xfrm>
              <a:off x="1103400" y="24382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1103400" y="2438280"/>
              <a:ext cx="69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s indicadores são ainda disponibilizados on-line, num dos cantos da sala, através de um conjunto de seis ecrãs interligados, designados por "Flight Deck"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25F-1B87-4E45-BB6F-7B63B22E8F1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3"/>
          <p:cNvGrpSpPr/>
          <p:nvPr/>
        </p:nvGrpSpPr>
        <p:grpSpPr>
          <a:xfrm>
            <a:off x="380880" y="1905120"/>
            <a:ext cx="8223120" cy="947520"/>
            <a:chOff x="380880" y="1905120"/>
            <a:chExt cx="8223120" cy="947520"/>
          </a:xfrm>
        </p:grpSpPr>
        <p:sp>
          <p:nvSpPr>
            <p:cNvPr id="439" name="Rectangle 4"/>
            <p:cNvSpPr/>
            <p:nvPr/>
          </p:nvSpPr>
          <p:spPr>
            <a:xfrm>
              <a:off x="380880" y="1905120"/>
              <a:ext cx="8223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380880" y="1905120"/>
              <a:ext cx="82231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4056"/>
                  </a:solidFill>
                  <a:latin typeface="Tahoma"/>
                </a:rPr>
                <a:t>Benefícios</a:t>
              </a:r>
              <a:br>
                <a:rPr sz="2400"/>
              </a:b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As vantagens do novo sistema são visíveis 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Fácil visualização dos principais índices da empresa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Rápida avaliação e revisão de resultado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Análise concreta de eventuais desajuste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Tomada rápida e eficaz de ações corretiva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Gestão e medição de desempen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57F4-CD09-4EF4-B0CD-A7486B12BB2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1103400" y="2209680"/>
            <a:ext cx="6937200" cy="1469880"/>
            <a:chOff x="1103400" y="2209680"/>
            <a:chExt cx="6937200" cy="1469880"/>
          </a:xfrm>
        </p:grpSpPr>
        <p:sp>
          <p:nvSpPr>
            <p:cNvPr id="444" name="Rectangle 4"/>
            <p:cNvSpPr/>
            <p:nvPr/>
          </p:nvSpPr>
          <p:spPr>
            <a:xfrm>
              <a:off x="1103400" y="22096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1103400" y="2209680"/>
              <a:ext cx="69372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 que resulta e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Execução de uma estratégia integrada 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Aceleração dos processos de trabalho 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Aumento de competitividade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199D-B34A-46E6-818F-88EB82D34D4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eferênci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LES, R.; SNOW, C.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Organization strategy: structure and process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w York: McGraw Hill, 197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TZBERG, H.; JOSEPH, L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Refleting on the strategy process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loan Management Review, Spring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__________, H.; AHLSTRAND, Bruce; LAMPEL, Joseph. Safári de estratégia. Porto Alegre: Bookmann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RAIS, Roberto Tadeu Ramos. Planejamento estratégico: um bem ou mal necessário? Rio de Janeiro: Fundo de Cultura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ER, Michael. Estratégia competitiva: técnicas para análise da indústria e da concorrência. Rio de Janeiro: Campus, 198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_______, Michael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mpetitive advantage: creating and sustaining competitive performance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w York: The Free Press, 198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AHALAD, C.K.; HAMEL, G. Competindo pelo futuro: estratégias inovadoras para obter o controle do seu setor e criar os mercados de amanhã. Rio de Janeiro: Campus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5D4-CEDA-4C29-BC9A-1F196051F85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MUITO OBRIGADO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.º Roberto Morais, D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51) 811833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51) 354166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posgrad@faccat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42:19Z</dcterms:created>
  <dc:creator>roberto</dc:creator>
  <dc:description/>
  <dc:language>en-US</dc:language>
  <cp:lastModifiedBy>Usuario</cp:lastModifiedBy>
  <dcterms:modified xsi:type="dcterms:W3CDTF">2009-09-06T23:53:14Z</dcterms:modified>
  <cp:revision>96</cp:revision>
  <dc:subject/>
  <dc:title>Unoesc – Campus Xanxerê MBA em Gestão Financeira e Estratégica</dc:title>
</cp:coreProperties>
</file>