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14.xml.rels" ContentType="application/vnd.openxmlformats-package.relationships+xml"/>
  <Override PartName="/ppt/slides/_rels/slide89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70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1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9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_rels/slide92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97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89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  <p:sldId id="298" r:id="rId47"/>
    <p:sldId id="299" r:id="rId48"/>
    <p:sldId id="300" r:id="rId49"/>
    <p:sldId id="301" r:id="rId50"/>
    <p:sldId id="302" r:id="rId51"/>
    <p:sldId id="303" r:id="rId52"/>
    <p:sldId id="304" r:id="rId53"/>
    <p:sldId id="305" r:id="rId54"/>
    <p:sldId id="306" r:id="rId55"/>
    <p:sldId id="307" r:id="rId56"/>
    <p:sldId id="308" r:id="rId57"/>
    <p:sldId id="309" r:id="rId58"/>
    <p:sldId id="310" r:id="rId59"/>
    <p:sldId id="311" r:id="rId60"/>
    <p:sldId id="312" r:id="rId61"/>
    <p:sldId id="313" r:id="rId62"/>
    <p:sldId id="314" r:id="rId63"/>
    <p:sldId id="315" r:id="rId64"/>
    <p:sldId id="316" r:id="rId65"/>
    <p:sldId id="317" r:id="rId66"/>
    <p:sldId id="318" r:id="rId67"/>
    <p:sldId id="319" r:id="rId68"/>
    <p:sldId id="320" r:id="rId69"/>
    <p:sldId id="321" r:id="rId70"/>
    <p:sldId id="322" r:id="rId71"/>
    <p:sldId id="323" r:id="rId72"/>
    <p:sldId id="324" r:id="rId73"/>
    <p:sldId id="325" r:id="rId74"/>
    <p:sldId id="326" r:id="rId75"/>
    <p:sldId id="327" r:id="rId76"/>
    <p:sldId id="328" r:id="rId77"/>
    <p:sldId id="329" r:id="rId78"/>
    <p:sldId id="330" r:id="rId79"/>
    <p:sldId id="331" r:id="rId80"/>
    <p:sldId id="332" r:id="rId81"/>
    <p:sldId id="333" r:id="rId82"/>
    <p:sldId id="334" r:id="rId83"/>
    <p:sldId id="335" r:id="rId84"/>
    <p:sldId id="336" r:id="rId85"/>
    <p:sldId id="337" r:id="rId86"/>
    <p:sldId id="338" r:id="rId87"/>
    <p:sldId id="339" r:id="rId88"/>
    <p:sldId id="340" r:id="rId89"/>
    <p:sldId id="341" r:id="rId90"/>
    <p:sldId id="342" r:id="rId91"/>
    <p:sldId id="343" r:id="rId92"/>
    <p:sldId id="344" r:id="rId93"/>
    <p:sldId id="345" r:id="rId94"/>
    <p:sldId id="346" r:id="rId95"/>
    <p:sldId id="347" r:id="rId96"/>
    <p:sldId id="348" r:id="rId97"/>
    <p:sldId id="349" r:id="rId98"/>
    <p:sldId id="350" r:id="rId99"/>
    <p:sldId id="351" r:id="rId100"/>
    <p:sldId id="352" r:id="rId101"/>
    <p:sldId id="353" r:id="rId102"/>
    <p:sldId id="354" r:id="rId10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slide" Target="slides/slide43.xml"/><Relationship Id="rId48" Type="http://schemas.openxmlformats.org/officeDocument/2006/relationships/slide" Target="slides/slide44.xml"/><Relationship Id="rId49" Type="http://schemas.openxmlformats.org/officeDocument/2006/relationships/slide" Target="slides/slide45.xml"/><Relationship Id="rId50" Type="http://schemas.openxmlformats.org/officeDocument/2006/relationships/slide" Target="slides/slide46.xml"/><Relationship Id="rId51" Type="http://schemas.openxmlformats.org/officeDocument/2006/relationships/slide" Target="slides/slide47.xml"/><Relationship Id="rId52" Type="http://schemas.openxmlformats.org/officeDocument/2006/relationships/slide" Target="slides/slide48.xml"/><Relationship Id="rId53" Type="http://schemas.openxmlformats.org/officeDocument/2006/relationships/slide" Target="slides/slide49.xml"/><Relationship Id="rId54" Type="http://schemas.openxmlformats.org/officeDocument/2006/relationships/slide" Target="slides/slide50.xml"/><Relationship Id="rId55" Type="http://schemas.openxmlformats.org/officeDocument/2006/relationships/slide" Target="slides/slide51.xml"/><Relationship Id="rId56" Type="http://schemas.openxmlformats.org/officeDocument/2006/relationships/slide" Target="slides/slide52.xml"/><Relationship Id="rId57" Type="http://schemas.openxmlformats.org/officeDocument/2006/relationships/slide" Target="slides/slide53.xml"/><Relationship Id="rId58" Type="http://schemas.openxmlformats.org/officeDocument/2006/relationships/slide" Target="slides/slide54.xml"/><Relationship Id="rId59" Type="http://schemas.openxmlformats.org/officeDocument/2006/relationships/slide" Target="slides/slide55.xml"/><Relationship Id="rId60" Type="http://schemas.openxmlformats.org/officeDocument/2006/relationships/slide" Target="slides/slide56.xml"/><Relationship Id="rId61" Type="http://schemas.openxmlformats.org/officeDocument/2006/relationships/slide" Target="slides/slide57.xml"/><Relationship Id="rId62" Type="http://schemas.openxmlformats.org/officeDocument/2006/relationships/slide" Target="slides/slide58.xml"/><Relationship Id="rId63" Type="http://schemas.openxmlformats.org/officeDocument/2006/relationships/slide" Target="slides/slide59.xml"/><Relationship Id="rId64" Type="http://schemas.openxmlformats.org/officeDocument/2006/relationships/slide" Target="slides/slide60.xml"/><Relationship Id="rId65" Type="http://schemas.openxmlformats.org/officeDocument/2006/relationships/slide" Target="slides/slide61.xml"/><Relationship Id="rId66" Type="http://schemas.openxmlformats.org/officeDocument/2006/relationships/slide" Target="slides/slide62.xml"/><Relationship Id="rId67" Type="http://schemas.openxmlformats.org/officeDocument/2006/relationships/slide" Target="slides/slide63.xml"/><Relationship Id="rId68" Type="http://schemas.openxmlformats.org/officeDocument/2006/relationships/slide" Target="slides/slide64.xml"/><Relationship Id="rId69" Type="http://schemas.openxmlformats.org/officeDocument/2006/relationships/slide" Target="slides/slide65.xml"/><Relationship Id="rId70" Type="http://schemas.openxmlformats.org/officeDocument/2006/relationships/slide" Target="slides/slide66.xml"/><Relationship Id="rId71" Type="http://schemas.openxmlformats.org/officeDocument/2006/relationships/slide" Target="slides/slide67.xml"/><Relationship Id="rId72" Type="http://schemas.openxmlformats.org/officeDocument/2006/relationships/slide" Target="slides/slide68.xml"/><Relationship Id="rId73" Type="http://schemas.openxmlformats.org/officeDocument/2006/relationships/slide" Target="slides/slide69.xml"/><Relationship Id="rId74" Type="http://schemas.openxmlformats.org/officeDocument/2006/relationships/slide" Target="slides/slide70.xml"/><Relationship Id="rId75" Type="http://schemas.openxmlformats.org/officeDocument/2006/relationships/slide" Target="slides/slide71.xml"/><Relationship Id="rId76" Type="http://schemas.openxmlformats.org/officeDocument/2006/relationships/slide" Target="slides/slide72.xml"/><Relationship Id="rId77" Type="http://schemas.openxmlformats.org/officeDocument/2006/relationships/slide" Target="slides/slide73.xml"/><Relationship Id="rId78" Type="http://schemas.openxmlformats.org/officeDocument/2006/relationships/slide" Target="slides/slide74.xml"/><Relationship Id="rId79" Type="http://schemas.openxmlformats.org/officeDocument/2006/relationships/slide" Target="slides/slide75.xml"/><Relationship Id="rId80" Type="http://schemas.openxmlformats.org/officeDocument/2006/relationships/slide" Target="slides/slide76.xml"/><Relationship Id="rId81" Type="http://schemas.openxmlformats.org/officeDocument/2006/relationships/slide" Target="slides/slide77.xml"/><Relationship Id="rId82" Type="http://schemas.openxmlformats.org/officeDocument/2006/relationships/slide" Target="slides/slide78.xml"/><Relationship Id="rId83" Type="http://schemas.openxmlformats.org/officeDocument/2006/relationships/slide" Target="slides/slide79.xml"/><Relationship Id="rId84" Type="http://schemas.openxmlformats.org/officeDocument/2006/relationships/slide" Target="slides/slide80.xml"/><Relationship Id="rId85" Type="http://schemas.openxmlformats.org/officeDocument/2006/relationships/slide" Target="slides/slide81.xml"/><Relationship Id="rId86" Type="http://schemas.openxmlformats.org/officeDocument/2006/relationships/slide" Target="slides/slide82.xml"/><Relationship Id="rId87" Type="http://schemas.openxmlformats.org/officeDocument/2006/relationships/slide" Target="slides/slide83.xml"/><Relationship Id="rId88" Type="http://schemas.openxmlformats.org/officeDocument/2006/relationships/slide" Target="slides/slide84.xml"/><Relationship Id="rId89" Type="http://schemas.openxmlformats.org/officeDocument/2006/relationships/slide" Target="slides/slide85.xml"/><Relationship Id="rId90" Type="http://schemas.openxmlformats.org/officeDocument/2006/relationships/slide" Target="slides/slide86.xml"/><Relationship Id="rId91" Type="http://schemas.openxmlformats.org/officeDocument/2006/relationships/slide" Target="slides/slide87.xml"/><Relationship Id="rId92" Type="http://schemas.openxmlformats.org/officeDocument/2006/relationships/slide" Target="slides/slide88.xml"/><Relationship Id="rId93" Type="http://schemas.openxmlformats.org/officeDocument/2006/relationships/slide" Target="slides/slide89.xml"/><Relationship Id="rId94" Type="http://schemas.openxmlformats.org/officeDocument/2006/relationships/slide" Target="slides/slide90.xml"/><Relationship Id="rId95" Type="http://schemas.openxmlformats.org/officeDocument/2006/relationships/slide" Target="slides/slide91.xml"/><Relationship Id="rId96" Type="http://schemas.openxmlformats.org/officeDocument/2006/relationships/slide" Target="slides/slide92.xml"/><Relationship Id="rId97" Type="http://schemas.openxmlformats.org/officeDocument/2006/relationships/slide" Target="slides/slide93.xml"/><Relationship Id="rId98" Type="http://schemas.openxmlformats.org/officeDocument/2006/relationships/slide" Target="slides/slide94.xml"/><Relationship Id="rId99" Type="http://schemas.openxmlformats.org/officeDocument/2006/relationships/slide" Target="slides/slide95.xml"/><Relationship Id="rId100" Type="http://schemas.openxmlformats.org/officeDocument/2006/relationships/slide" Target="slides/slide96.xml"/><Relationship Id="rId101" Type="http://schemas.openxmlformats.org/officeDocument/2006/relationships/slide" Target="slides/slide97.xml"/><Relationship Id="rId102" Type="http://schemas.openxmlformats.org/officeDocument/2006/relationships/slide" Target="slides/slide98.xml"/><Relationship Id="rId103" Type="http://schemas.openxmlformats.org/officeDocument/2006/relationships/slide" Target="slides/slide99.xml"/><Relationship Id="rId10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CC758-93EC-46AE-B4C5-D684938CDE91}" type="slidenum"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2" name="Rectangle 6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pt-BR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6A9B-09BC-4622-9217-58F1A216DA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2A659-2107-4785-9D93-26D3CB1E4E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5AB7E-4D6C-453A-8538-277AFAE214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47C9-1167-43B8-B218-0B5BAD8128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3F38DB-A7D3-456B-8FAC-0E005DAF9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19A58C-D0B8-4250-BB6E-73D0182911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47EB9A-88DC-442A-AA7B-115FE21332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DDE559-4AD2-4222-B290-6E506954C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72FC6A-3DDB-4163-99E8-10BDBC48E1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86F9F-832C-49FD-A4CF-BF0D1D75DA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49891-048D-45F2-ADE4-2841C8F27E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2B59B-28AE-42F3-B24E-C0EDCA76E8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BBB360-5F59-451F-AC80-40F977F9C4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FC5F12-4074-4CE0-861A-A3FBD86A44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AC037C-9789-4364-8A8C-CE93A6640B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FDDB0-0E7B-41E6-9760-4C470892FC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28896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5968800" y="159984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0948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28896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5968800" y="3908520"/>
            <a:ext cx="255168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8BE956-6645-44C3-BCDF-DEE2B69212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31FD0-7C0C-4DAB-8612-C1794296C5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83AA-9C75-488C-839C-9F5BF4E759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32089-6E14-4EC3-8878-3C3A5BE5E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94760" y="228600"/>
            <a:ext cx="8015400" cy="4240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7B31B-77D5-40C1-9658-833A992B8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EA645-AD99-4C34-BA70-26E6CF0F74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0280" y="390852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DDE86-0A3E-4828-BE95-3131C20CE6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0280" y="1599840"/>
            <a:ext cx="38671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609480" y="3908520"/>
            <a:ext cx="79250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1B0F0-346A-4FD4-A8E3-B5F680322E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152280"/>
            <a:ext cx="8686800" cy="6096240"/>
            <a:chOff x="0" y="152280"/>
            <a:chExt cx="8686800" cy="6096240"/>
          </a:xfrm>
        </p:grpSpPr>
        <p:sp>
          <p:nvSpPr>
            <p:cNvPr id="1" name="AutoShape 3"/>
            <p:cNvSpPr/>
            <p:nvPr/>
          </p:nvSpPr>
          <p:spPr>
            <a:xfrm>
              <a:off x="380880" y="533520"/>
              <a:ext cx="8305920" cy="5715000"/>
            </a:xfrm>
            <a:prstGeom prst="roundRect">
              <a:avLst>
                <a:gd name="adj" fmla="val 1372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AutoShape 4"/>
            <p:cNvSpPr/>
            <p:nvPr/>
          </p:nvSpPr>
          <p:spPr>
            <a:xfrm>
              <a:off x="0" y="152280"/>
              <a:ext cx="8534520" cy="121932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Line 5"/>
            <p:cNvSpPr/>
            <p:nvPr/>
          </p:nvSpPr>
          <p:spPr>
            <a:xfrm>
              <a:off x="0" y="1219320"/>
              <a:ext cx="8077320" cy="0"/>
            </a:xfrm>
            <a:prstGeom prst="line">
              <a:avLst/>
            </a:prstGeom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BD5CA-0487-43B9-8605-0EC9D94D02D8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927000"/>
            <a:ext cx="8991720" cy="4496040"/>
            <a:chOff x="0" y="927000"/>
            <a:chExt cx="8991720" cy="4496040"/>
          </a:xfrm>
        </p:grpSpPr>
        <p:sp>
          <p:nvSpPr>
            <p:cNvPr id="46" name="AutoShape 3"/>
            <p:cNvSpPr/>
            <p:nvPr/>
          </p:nvSpPr>
          <p:spPr>
            <a:xfrm>
              <a:off x="685800" y="2070000"/>
              <a:ext cx="7391520" cy="3353040"/>
            </a:xfrm>
            <a:prstGeom prst="roundRect">
              <a:avLst>
                <a:gd name="adj" fmla="val 16667"/>
              </a:avLst>
            </a:prstGeom>
            <a:noFill/>
            <a:ln w="5076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228600" y="927000"/>
              <a:ext cx="7162920" cy="990720"/>
            </a:xfrm>
            <a:prstGeom prst="rect">
              <a:avLst/>
            </a:prstGeom>
            <a:solidFill>
              <a:srgbClr val="ffffff"/>
            </a:solidFill>
            <a:ln w="57240">
              <a:solidFill>
                <a:srgbClr val="6699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AutoShape 5"/>
            <p:cNvSpPr/>
            <p:nvPr/>
          </p:nvSpPr>
          <p:spPr>
            <a:xfrm>
              <a:off x="0" y="1384200"/>
              <a:ext cx="8991720" cy="1828800"/>
            </a:xfrm>
            <a:prstGeom prst="pie">
              <a:avLst/>
            </a:prstGeom>
            <a:solidFill>
              <a:srgbClr val="6666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Line 6"/>
            <p:cNvSpPr/>
            <p:nvPr/>
          </p:nvSpPr>
          <p:spPr>
            <a:xfrm>
              <a:off x="0" y="3060720"/>
              <a:ext cx="8305920" cy="0"/>
            </a:xfrm>
            <a:prstGeom prst="line">
              <a:avLst/>
            </a:prstGeom>
            <a:ln w="507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6666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669999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4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 type="dt" idx="4"/>
          </p:nvPr>
        </p:nvSpPr>
        <p:spPr>
          <a:xfrm>
            <a:off x="45684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 type="ftr" idx="5"/>
          </p:nvPr>
        </p:nvSpPr>
        <p:spPr>
          <a:xfrm>
            <a:off x="3124080" y="62532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133720" cy="47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A9BD9-92F8-4490-809F-0EA2D327E7EE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hyperlink" Target="mailto:posgrad@faccat.br" TargetMode="External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Rectangle 11"/>
          <p:cNvSpPr/>
          <p:nvPr/>
        </p:nvSpPr>
        <p:spPr>
          <a:xfrm>
            <a:off x="6553080" y="6248520"/>
            <a:ext cx="2133720" cy="47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A4A004-2B63-40FD-8EE4-C614EED1E1C3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28240" y="1427040"/>
            <a:ext cx="8077320" cy="1609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FACCAT – Faculdades Integradas de Taquara</a:t>
            </a:r>
            <a:br>
              <a:rPr sz="3300"/>
            </a:br>
            <a:r>
              <a:rPr b="0" lang="pt-BR" sz="2400" spc="-1" strike="noStrike">
                <a:solidFill>
                  <a:srgbClr val="ffffff"/>
                </a:solidFill>
                <a:latin typeface="Arial"/>
              </a:rPr>
              <a:t>MBA 2009 &amp; MBA JÚNIOR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066320" y="3441240"/>
            <a:ext cx="662940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f.º Roberto Morais, D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isciplina: Estratégia Competi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FA24E3-4109-42C8-B31A-402DA32E6B60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pt-BR" sz="2100" spc="-1" strike="noStrike">
                <a:solidFill>
                  <a:srgbClr val="ffffff"/>
                </a:solidFill>
                <a:latin typeface="Arial"/>
              </a:rPr>
              <a:t>O AMBIENTE COMPETITIVO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Rectangle 4"/>
          <p:cNvSpPr/>
          <p:nvPr/>
        </p:nvSpPr>
        <p:spPr>
          <a:xfrm>
            <a:off x="395280" y="1700280"/>
            <a:ext cx="8353440" cy="792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800" spc="-1" strike="noStrike">
                <a:solidFill>
                  <a:srgbClr val="000000"/>
                </a:solidFill>
                <a:latin typeface="Times New Roman"/>
              </a:rPr>
              <a:t>Ambiente macroeconômico: político, legal, social, demográfico, cultural e tecnológ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5"/>
          <p:cNvSpPr/>
          <p:nvPr/>
        </p:nvSpPr>
        <p:spPr>
          <a:xfrm>
            <a:off x="1447920" y="2971800"/>
            <a:ext cx="6400800" cy="2362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6"/>
          <p:cNvSpPr/>
          <p:nvPr/>
        </p:nvSpPr>
        <p:spPr>
          <a:xfrm>
            <a:off x="2666880" y="3124080"/>
            <a:ext cx="3733920" cy="3049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mbiente microeconô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Rectangle 7"/>
          <p:cNvSpPr/>
          <p:nvPr/>
        </p:nvSpPr>
        <p:spPr>
          <a:xfrm>
            <a:off x="1828800" y="3886200"/>
            <a:ext cx="2057400" cy="121932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Sofisticação d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empresas e 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suas operaçõ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8"/>
          <p:cNvSpPr/>
          <p:nvPr/>
        </p:nvSpPr>
        <p:spPr>
          <a:xfrm>
            <a:off x="5105520" y="3886200"/>
            <a:ext cx="2057400" cy="114300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Qualidade d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ambi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Times New Roman"/>
              </a:rPr>
              <a:t>microeconômic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9"/>
          <p:cNvSpPr/>
          <p:nvPr/>
        </p:nvSpPr>
        <p:spPr>
          <a:xfrm>
            <a:off x="4267080" y="4343400"/>
            <a:ext cx="609840" cy="304920"/>
          </a:xfrm>
          <a:prstGeom prst="leftRightArrow">
            <a:avLst>
              <a:gd name="adj1" fmla="val 50000"/>
              <a:gd name="adj2" fmla="val 39815"/>
            </a:avLst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Rectangle 10"/>
          <p:cNvSpPr/>
          <p:nvPr/>
        </p:nvSpPr>
        <p:spPr>
          <a:xfrm>
            <a:off x="609480" y="5562720"/>
            <a:ext cx="7543800" cy="838080"/>
          </a:xfrm>
          <a:prstGeom prst="rect">
            <a:avLst/>
          </a:prstGeom>
          <a:solidFill>
            <a:srgbClr val="99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Um ambiente macroeconômico, político, legal e social estável define as condições potenciais para a competitividade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mas não são suficient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Competitividade depende sobretudo na melhoria das capacidades microeconômicas de uma economia e </a:t>
            </a: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a sofisticaçã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200" spc="-1" strike="noStrike">
                <a:solidFill>
                  <a:srgbClr val="000000"/>
                </a:solidFill>
                <a:latin typeface="Times New Roman"/>
              </a:rPr>
              <a:t>das empresas locai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E4924-ED2A-48B2-822E-A8D3A48115FC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ffffff"/>
                </a:solidFill>
                <a:latin typeface="Arial"/>
              </a:rPr>
              <a:t>5 FORÇAS COMPETITIVAS (Porter, 1980)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r de negociação dos fornecedores(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 manifesta na capacidade dos mesmos de elevar os preços ou reduzir a qualidade dos bens e serviços fornecid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rá grande quando os compradores tiverem dificuldade em trocar ou utilizar mais de um fornece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¹) Concentração; diferenciação do insumos, custos de mudança relativos; insumos substitutos; importância do volume; diferenciaçã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97D43-39C8-4E5D-83F0-3DBEB51E33A7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ffffff"/>
                </a:solidFill>
                <a:latin typeface="Arial"/>
              </a:rPr>
              <a:t>5 FORÇAS COMPETITIVAS (Porter, 1980)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der de barganha dos compradores(¹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É tanto maior quanto a importância de suas compras para a indúst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feta a indústria forçando os preços para baixo, exigindo melhorias na qualidade, na compatibilidade dos produtos e nas garant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¹) Concentração de compradores; volume; custos de mudança; sensibilidade de preço; produtos substitutos; informação do comprador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6248F-1262-499B-9C05-5499A9667DE0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ffffff"/>
                </a:solidFill>
                <a:latin typeface="Arial"/>
              </a:rPr>
              <a:t>5 FORÇAS COMPETITIVAS (Porter, 1980)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ressão dos produtos substitutos(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odutos que podem desempenhar a mesma função dos produtos de determinada indúst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nto melhor a relação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</a:rPr>
              <a:t>desempenho-preç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os produtos substitutos, maior a pressão sobre o lucro da indúst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¹) Preço-desempenho dos produtos; substitutos x concentração de empresas; custos de mudança; propensão do comprador a mudar de forneced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CB2366-A6EC-4C67-8BE0-16238AE8EF0A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ffffff"/>
                </a:solidFill>
                <a:latin typeface="Arial"/>
              </a:rPr>
              <a:t>5 FORÇAS COMPETITIVAS (Porter, 1980)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meaça de novos entran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presentam ameaça porque geralmente chegam bem capitalizados e com forte intenção de conquistar alguma parcela do merc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preços podem cair e os custos serem inflacionados, diminuindo a rentabilidade do negóci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3 aspectos que protegem as empresas contra novos entrantes: </a:t>
            </a:r>
            <a:r>
              <a:rPr b="0" lang="pt-BR" sz="2000" spc="-1" strike="noStrike">
                <a:solidFill>
                  <a:srgbClr val="0066ff"/>
                </a:solidFill>
                <a:latin typeface="Arial"/>
              </a:rPr>
              <a:t>(a) barreiras de entrada; (b) expectativa de retaliação por parte dos concorrentes já atuantes no mercado; (c) o preço de entrada dissuasivo. *próxim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C11753-DC4A-4039-B299-05B5192072A0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ffffff"/>
                </a:solidFill>
                <a:latin typeface="Arial"/>
              </a:rPr>
              <a:t>5 FORÇAS COMPETITIVAS (Porter, 1980)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meaças de novos entrantes (¹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66ff"/>
                </a:solidFill>
                <a:latin typeface="Arial"/>
              </a:rPr>
              <a:t>Barreiras de entrada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: envolve a necessidade de altos investimentos em infra-estrutura, equipamentos, estoques, marketing; altos custos de mudança; alto custo de produção foram da economia de escal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66ff"/>
                </a:solidFill>
                <a:latin typeface="Arial"/>
              </a:rPr>
              <a:t>Expectativa de retaliaçã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: é diretamente proporcional aos recursos de contra-ataque disponíveis nas empresas já participantes do mercado e á ameaça que o novo entrante parece representar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66ff"/>
                </a:solidFill>
                <a:latin typeface="Arial"/>
              </a:rPr>
              <a:t>Preço de entrada dissuasivo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: ocorre quando o preço estimado dos custos necessários para que um novo entrante supere as barreiras de entrada está acima dos preços praticados na indústria, desestimulando a entrada de novas empres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(¹) Economias de escala; identidade da marca; custos de mudanças; exigências de capital; acesso à distribuição; curvas de aprendizagem; tecnologia; política governament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FD3701-BEDB-4519-B3CA-769510BB2B7F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ffffff"/>
                </a:solidFill>
                <a:latin typeface="Arial"/>
              </a:rPr>
              <a:t>5 FORÇAS COMPETITIVAS (Porter, 1980)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Rivalidade entre os concorrentes(¹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580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05600" indent="-2714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Fatores envolvidos na alta rivalidade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ncorrentes numerosos ou bem equilibrad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rescimento lento da indústria (jogo de parcela de mercad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ustos fixos ou de armazenamentos alt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usência de diferenciação ou custos de mudanç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Barreiras de saída elevadas (posse de ativos especializados; custos fixos de saída como acordos trabalhistas; restrições governamentais; barreiras emocionai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85760" indent="-217080">
              <a:lnSpc>
                <a:spcPct val="90000"/>
              </a:lnSpc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¹) Se dá pela disputa por melhor posição no merc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FE7CD3-FBBE-473E-8F15-3D17F5F88331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900" spc="-1" strike="noStrike">
                <a:solidFill>
                  <a:srgbClr val="ffffff"/>
                </a:solidFill>
                <a:latin typeface="Arial"/>
              </a:rPr>
              <a:t>Positioning Scholl x Learning Schol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Positioning Scholl 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taca principalmente os aspectos extrínsecos à organizaçã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No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</a:rPr>
              <a:t>Learning Scholl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caracteriza-se por um pensamento mais focalizado nos aspectos intrínsecos à organização-empresa. O seu principal construto teórico: </a:t>
            </a:r>
            <a:r>
              <a:rPr b="0" lang="pt-BR" sz="2800" spc="-1" strike="noStrike">
                <a:solidFill>
                  <a:srgbClr val="996666"/>
                </a:solidFill>
                <a:latin typeface="Arial"/>
              </a:rPr>
              <a:t>o conceito de competências organizacionai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2C74F-AA8A-435F-A9C1-A4517CDE4B68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ffffff"/>
                </a:solidFill>
                <a:latin typeface="Arial"/>
              </a:rPr>
              <a:t>COMPETÊNCIAS ORGANIZACIONAI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Vollman (1996) classifica em 4 categorias: (a) terceirizáveis; (b) rotineiras; (c) essenciais e (d) distintiva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a competência distintiva que gera o diferencial estratégico competitivo e a possibilidade de liderança em um determinado merc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E4D17D-FA3A-4DB3-9048-5C4C5E147306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ffffff"/>
                </a:solidFill>
                <a:latin typeface="Arial"/>
              </a:rPr>
              <a:t>COMPETÊNCIAS ORGANIZACIONAI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ahalad e Hamel (1991) veem as competências organizacionais como raízes da vantagem competitiv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ndo são bem desenvolvidas, elas são </a:t>
            </a:r>
            <a:r>
              <a:rPr b="0" lang="pt-BR" sz="2400" spc="-1" strike="noStrike">
                <a:solidFill>
                  <a:srgbClr val="996666"/>
                </a:solidFill>
                <a:latin typeface="Arial"/>
              </a:rPr>
              <a:t>difíceis de serem imitad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 tem o valor que agregam amplamente percebido pelo consumidor, garantem uma vantagem competitiva inquestionável e proporcionam o acesso potencial da empresa a uma grande variedade de mercad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DA9652-FB30-4373-BE68-250BD58B7347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ffffff"/>
                </a:solidFill>
                <a:latin typeface="Arial"/>
              </a:rPr>
              <a:t>Ementa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ambiente competitiv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A estrutura da indústria e as cinco forças de Port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Estratégias competitivas genéricas: tipologias de Porter, Mintzberg, Miles &amp; Snow e tipologia baseada em recurs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imensões da estratégia competitiva e grupos estratégic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sempenho organizac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DF04BD-A33C-4D41-9992-1E9F92D39290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ffffff"/>
                </a:solidFill>
                <a:latin typeface="Arial"/>
              </a:rPr>
              <a:t>COMPETÊNCIAS ORGANIZACIONAI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De acordo com Day (1997) existem 5 condições para que uma competência seja uma fonte segura de vantagem competitiv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r valo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r durá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presentar ambiguidade caus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ão ser facilmente duplicá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r apta a gerar retali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66B75-5C18-4E5D-A332-71453FD63879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ffffff"/>
                </a:solidFill>
                <a:latin typeface="Arial"/>
              </a:rPr>
              <a:t>ESTRATÉGIAS COMPETITIVAS GENÉRICA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estudo de estratégias competitivas das empresas levou alguns autores a desenvolver tipologias genéricas amplas que permitissem sua aplicação a qualquer empresa de qualquer indústria, em qualquer estágio de desenvolvimento </a:t>
            </a:r>
            <a:r>
              <a:rPr b="0" lang="pt-BR" sz="2400" spc="-1" strike="noStrike">
                <a:solidFill>
                  <a:srgbClr val="0066ff"/>
                </a:solidFill>
                <a:latin typeface="Arial"/>
              </a:rPr>
              <a:t>(Porter, 1980,1985; Mintzberg, 1988; Miles &amp; Snow, 1978, entre outro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9EF0B2-B187-40D2-8DD3-F86B52C571BE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ffffff"/>
                </a:solidFill>
                <a:latin typeface="Arial"/>
              </a:rPr>
              <a:t>ESTRATÉGIAS COMPETITIVAS GENÉRICA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ipologia de Porte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barca 3 estratégias genéricas para enfrentar as cinco forças competitivas e alcançar um desempenho superior aos das outras empresas, a saber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iderança no custo tot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ferenci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097280" indent="-21924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nfoque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4"/>
          <p:cNvSpPr/>
          <p:nvPr/>
        </p:nvSpPr>
        <p:spPr>
          <a:xfrm>
            <a:off x="4356000" y="4221000"/>
            <a:ext cx="360360" cy="720720"/>
          </a:xfrm>
          <a:custGeom>
            <a:avLst/>
            <a:gdLst>
              <a:gd name="textAreaLeft" fmla="*/ 0 w 360360"/>
              <a:gd name="textAreaRight" fmla="*/ 129960 w 36036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Text Box 5"/>
          <p:cNvSpPr/>
          <p:nvPr/>
        </p:nvSpPr>
        <p:spPr>
          <a:xfrm>
            <a:off x="4859280" y="436572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Text Box 6"/>
          <p:cNvSpPr/>
          <p:nvPr/>
        </p:nvSpPr>
        <p:spPr>
          <a:xfrm>
            <a:off x="4914720" y="4384800"/>
            <a:ext cx="1727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o compet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AutoShape 7"/>
          <p:cNvSpPr/>
          <p:nvPr/>
        </p:nvSpPr>
        <p:spPr>
          <a:xfrm>
            <a:off x="3419640" y="5084640"/>
            <a:ext cx="215640" cy="432000"/>
          </a:xfrm>
          <a:custGeom>
            <a:avLst/>
            <a:gdLst>
              <a:gd name="textAreaLeft" fmla="*/ 0 w 215640"/>
              <a:gd name="textAreaRight" fmla="*/ 77760 w 215640"/>
              <a:gd name="textAreaTop" fmla="*/ 11160 h 432000"/>
              <a:gd name="textAreaBottom" fmla="*/ 420840 h 432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8"/>
          <p:cNvSpPr/>
          <p:nvPr/>
        </p:nvSpPr>
        <p:spPr>
          <a:xfrm>
            <a:off x="3854520" y="5157720"/>
            <a:ext cx="1778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onde competi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Espaço Reservado para Número de Slide 6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4B40D3-820F-4CC5-A12F-A092616786B9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ffffff"/>
                </a:solidFill>
                <a:latin typeface="Arial"/>
              </a:rPr>
              <a:t>ESTRATÉGIAS COMPETITIVAS GENÉRICA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ipologia de Por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55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85" name=""/>
          <p:cNvGraphicFramePr/>
          <p:nvPr/>
        </p:nvGraphicFramePr>
        <p:xfrm>
          <a:off x="3114720" y="2612880"/>
          <a:ext cx="4194000" cy="2882880"/>
        </p:xfrm>
        <a:graphic>
          <a:graphicData uri="http://schemas.openxmlformats.org/drawingml/2006/table">
            <a:tbl>
              <a:tblPr/>
              <a:tblGrid>
                <a:gridCol w="2046240"/>
                <a:gridCol w="2147760"/>
              </a:tblGrid>
              <a:tr h="14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derança em Cus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ferenciaçã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44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foque no Cust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foque na Diferenciaçã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86" name="Text Box 17"/>
          <p:cNvSpPr/>
          <p:nvPr/>
        </p:nvSpPr>
        <p:spPr>
          <a:xfrm>
            <a:off x="3258360" y="2081160"/>
            <a:ext cx="155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usto Inferi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Text Box 18"/>
          <p:cNvSpPr/>
          <p:nvPr/>
        </p:nvSpPr>
        <p:spPr>
          <a:xfrm>
            <a:off x="5296320" y="1989000"/>
            <a:ext cx="1573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Diferenciaçã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Text Box 19"/>
          <p:cNvSpPr/>
          <p:nvPr/>
        </p:nvSpPr>
        <p:spPr>
          <a:xfrm>
            <a:off x="1476360" y="2944800"/>
            <a:ext cx="1247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lvo Ampl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Text Box 20"/>
          <p:cNvSpPr/>
          <p:nvPr/>
        </p:nvSpPr>
        <p:spPr>
          <a:xfrm>
            <a:off x="1403280" y="4529160"/>
            <a:ext cx="1387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lvo Restri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Text Box 21"/>
          <p:cNvSpPr/>
          <p:nvPr/>
        </p:nvSpPr>
        <p:spPr>
          <a:xfrm>
            <a:off x="90360" y="3448080"/>
            <a:ext cx="138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scop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mpetitiv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3E321-DB8E-4E30-ACEF-BDF0047FBE52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ffffff"/>
                </a:solidFill>
                <a:latin typeface="Arial"/>
              </a:rPr>
              <a:t>Liderança no Custo Total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966ff"/>
                </a:solidFill>
                <a:latin typeface="Arial"/>
              </a:rPr>
              <a:t>Ponto central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é a empresa fazer com que seu custo total seja menor do que o de seus concorr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966ff"/>
                </a:solidFill>
                <a:latin typeface="Arial"/>
              </a:rPr>
              <a:t>Mecanismo de defes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especialmente no tocante à guerra de preç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966ff"/>
                </a:solidFill>
                <a:latin typeface="Arial"/>
              </a:rPr>
              <a:t>Pressão dos fornecedores: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empresa de custo mais baixo terá mais fôlego para continuar na indústria do que seus concorr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966ff"/>
                </a:solidFill>
                <a:latin typeface="Arial"/>
              </a:rPr>
              <a:t>Obs: Porter (1980,1985) entende que somente pode existir </a:t>
            </a:r>
            <a:r>
              <a:rPr b="0" i="1" lang="pt-BR" sz="2000" spc="-1" strike="noStrike">
                <a:solidFill>
                  <a:srgbClr val="9966ff"/>
                </a:solidFill>
                <a:latin typeface="Arial"/>
              </a:rPr>
              <a:t>um</a:t>
            </a:r>
            <a:r>
              <a:rPr b="0" lang="pt-BR" sz="2000" spc="-1" strike="noStrike">
                <a:solidFill>
                  <a:srgbClr val="9966ff"/>
                </a:solidFill>
                <a:latin typeface="Arial"/>
              </a:rPr>
              <a:t> líder em custo numa indústria (evitar a guerra de preços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9290D-34DF-4F8A-A8D5-C0C257C4BC74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Liderança no Custo Tota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ara se colocar em prática a empresa precis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cesso fácil à matéria pri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vestir na construção de instalações para fabricar seu produto ou serviço em escala eficiente e conquistar grande parcela de mercad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Reduzir custos através da </a:t>
            </a:r>
            <a:r>
              <a:rPr b="0" i="1" lang="pt-BR" sz="2400" spc="-1" strike="noStrike">
                <a:solidFill>
                  <a:srgbClr val="6666cc"/>
                </a:solidFill>
                <a:latin typeface="Arial"/>
              </a:rPr>
              <a:t>curva da experi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trolar de forma rigorosa os custos e despesas gerai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nxugar a área de pesquisa e desenvolvimento, gastos com assistência, vendas e publicidad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993300"/>
                </a:solidFill>
                <a:latin typeface="Arial"/>
              </a:rPr>
              <a:t>Exemplo: Panasonic (líder de custos na área de produtos eletrônicos de consumo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80374D-68B5-44CD-AD86-8E0C2F7A6D77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Diferenciação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ressupõe que a empresa ofereça, no âmbito de toda a indústria, um </a:t>
            </a:r>
            <a:r>
              <a:rPr b="1" lang="pt-BR" sz="2000" spc="-1" strike="noStrike">
                <a:solidFill>
                  <a:srgbClr val="9966ff"/>
                </a:solidFill>
                <a:latin typeface="Arial"/>
              </a:rPr>
              <a:t>produto(serviço)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que seja considerado </a:t>
            </a:r>
            <a:r>
              <a:rPr b="1" i="1" lang="pt-BR" sz="2000" spc="-1" strike="noStrike">
                <a:solidFill>
                  <a:srgbClr val="9966ff"/>
                </a:solidFill>
                <a:latin typeface="Arial"/>
              </a:rPr>
              <a:t>únic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pelos clientes, ou seja, cujas características o distingam daqueles oferecidos pela concorrênc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ssenta-se no fato de que podem existir características gerais que são valorizadas, em maior ou menor grau, pela maioria dos segmentos de mercado dentro da indúst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966ff"/>
                </a:solidFill>
                <a:latin typeface="Arial"/>
              </a:rPr>
              <a:t>Preço </a:t>
            </a:r>
            <a:r>
              <a:rPr b="0" i="1" lang="pt-BR" sz="2000" spc="-1" strike="noStrike">
                <a:solidFill>
                  <a:srgbClr val="9966ff"/>
                </a:solidFill>
                <a:latin typeface="Arial"/>
              </a:rPr>
              <a:t>Prêmio: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lientes dispostos a pagar mais para terem um produto ou serviço que eles consideram que melhor atende às suas necessidades. (Fidelidade dos consumidore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4BA644-7628-4BC5-844F-FA90F6C1C953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Diferenciação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ara se colocar em prática tal estratégia a empresa precisa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elhorar a imagem da mar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umentar a tecnologia envolvida no produ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crescentar algumas peculiaridad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ferecer produtos sob encomen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mpliar a rede de forneced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xemplo: Google (tecnologia de navegaçã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BD7DBB-C367-4367-8CA5-709C671430F3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ffffff"/>
                </a:solidFill>
                <a:latin typeface="Arial"/>
              </a:rPr>
              <a:t>Enfoque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empresa procura focalizar seus esforços sobre um determinado grupo, segmento ou mercado geográfico, atendendo a este alvo mais eficaz e eficientement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alvo, ou escopo estratégico, deve ser suficientemente estreito e pode ser definido sob diversas dimensões: tipo de clientes, linha de produtos, variedade de canal de distribuição, área geográf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93300"/>
                </a:solidFill>
                <a:latin typeface="Arial"/>
              </a:rPr>
              <a:t>Exemplo: Ferrari adota uma estratégia de foco na diferenciação. O foco é em consumidores de eli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594AD-E1FA-4A44-B5B0-7B80F23DFF32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ffffff"/>
                </a:solidFill>
                <a:latin typeface="Arial"/>
              </a:rPr>
              <a:t>Meio Termo ou </a:t>
            </a:r>
            <a:r>
              <a:rPr b="0" i="1" lang="pt-BR" sz="2900" spc="-1" strike="noStrike">
                <a:solidFill>
                  <a:srgbClr val="ffffff"/>
                </a:solidFill>
                <a:latin typeface="Arial"/>
              </a:rPr>
              <a:t>“Stuck-in-the-Middle”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empresa que não opta por nenhuma das três estratégias ou investe seus esforços na direção de duas ou três estratégias simultaneamente encontra-se em posição extremamente frágil frente as forças de competi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Um empresa nesta posição: possui baixa parcela de mercado e falta de investimentos de capital, possui processos e arranjos organizacionais ambíguos e conflitantes, além de uma </a:t>
            </a:r>
            <a:r>
              <a:rPr b="0" lang="pt-BR" sz="2400" spc="-1" strike="noStrike">
                <a:solidFill>
                  <a:srgbClr val="0066ff"/>
                </a:solidFill>
                <a:latin typeface="Arial"/>
              </a:rPr>
              <a:t>cultura empresarial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indefinid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F00BD-AD72-495E-856B-1367918EA5C1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ffffff"/>
                </a:solidFill>
                <a:latin typeface="Arial"/>
              </a:rPr>
              <a:t>Objetivos da Disciplina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Visa abordar os conceitos e processos básicos para uma empresa posicionar-se estrategicamen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monstrar ao aluno que se posicionar corretamente perante os desafios de um ambiente em contínua transformação exige revisões constantes de metas e estratégias em todas as áreas da organizaçã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xpandir o quadro de referência quanto aos novos modelos de gestão e estratégia organiza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1F57D2-3197-4EBC-B751-E86617B44726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Riscos Incorridos quando a empresa opta pela estratégia de Liderança no Custo Total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udança tecnológica que anula o investimento ou o aprendizado anterior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aixo custo do aprendizado por novas empresas ou seguidore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capacidade de ver a necessidade de mudança no produto ou na imagem devido a importância dada ao custo;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flação em custos que restringem a capacidade da empresa de manter o diferencial de preç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DBE473-F0F0-4FCD-9FFE-13BCCD219ADF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Riscos Incorridos quando a empresa opta pela estratégia de Diferenciação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umento da discrepância de preços entre concorrentes de baixo custo (preço significativamente menor rompe a fidelidade dos compradores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minuição da necessidade dos compradores do fator de diferenciação;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ssibilidade de imitação da diferenciaç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FB51D9-4823-4295-8F45-395F4B18C4F4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Riscos Incorridos quando a empresa opta pela estratégia de Enfoqu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umento do diferencial de custos entre os concorrentes que atuam em todo o mercado e as empresas que atuam de forma enfocada (elimina as vantagens de custos de atender um alvo restrito)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minuição entre as diferenças de atendimento do mercado total e do mercado enfocado; 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Localização de sub mercados pela concorrência dentro do mercado enfoc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A13B07-068E-476D-8D46-53B2A1EC8147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ffffff"/>
                </a:solidFill>
                <a:latin typeface="Arial"/>
              </a:rPr>
              <a:t>ESTRATÉGIAS COMPETITIVAS GENÉRICA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ipologia de Mintzberg (1988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intzberg entende que a maioria das tipologias estratégicas explicitadas são falhas, seja por focarem de </a:t>
            </a:r>
            <a:r>
              <a:rPr b="0" lang="pt-BR" sz="2400" spc="-1" strike="noStrike">
                <a:solidFill>
                  <a:srgbClr val="6666cc"/>
                </a:solidFill>
                <a:latin typeface="Arial"/>
              </a:rPr>
              <a:t>forma muito estreita em alguns tipos especiais de estratégi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seja por proporem </a:t>
            </a:r>
            <a:r>
              <a:rPr b="0" lang="pt-BR" sz="2400" spc="-1" strike="noStrike">
                <a:solidFill>
                  <a:srgbClr val="6666cc"/>
                </a:solidFill>
                <a:latin typeface="Arial"/>
              </a:rPr>
              <a:t>agregações arbitrár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ova tipologia derivadas a partir do conceito de </a:t>
            </a:r>
            <a:r>
              <a:rPr b="0" lang="pt-BR" sz="2400" spc="-1" strike="noStrike">
                <a:solidFill>
                  <a:srgbClr val="6666cc"/>
                </a:solidFill>
                <a:latin typeface="Arial"/>
              </a:rPr>
              <a:t>diferencia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 com nível de detalhamento maior que as estratégias de Porter (1980,1985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7B3C6E-0CA7-48B5-8C07-195939E413DE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ffffff"/>
                </a:solidFill>
                <a:latin typeface="Arial"/>
              </a:rPr>
              <a:t>ESTRATÉGIAS COMPETITIVAS GENÉRICA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Tipologia de Mintzberg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ferenciação por preç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ferenciação por image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ferenciação por supor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ferenciação por qualidad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ferenciação por desig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ão diferenciaçã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126FC2-4A4A-4380-9A11-E96F28402175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ffffff"/>
                </a:solidFill>
                <a:latin typeface="Arial"/>
              </a:rPr>
              <a:t>Diferenciação por Preço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minuir o preço de um determinado produto mantendo os outros atributos semelhantes aos dos produtos concorrentes do merc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produtor poderia obter lucros maiores do que os concorrentes se o aumento da parcela de mercado compensasse a queda da margem bruta, ou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 o produtor conseguisse otimizar a produção a tal ponto que seu custo de produção ficasse abaixo daquele de seus concorr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CF803A-B51C-4955-A84D-425B84D03588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Diferenciação por Imagem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Uma empresa pode se destacar das outras ao diferenciar a imagem do seu produt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sto pode ser conseguido através de investimentos em propaganda, marketing, promoções, alterações de embalagens, ou inclusão de detalhes que, embora não melhorando o desempenho do produto, o tornam mais atrativo para alguns cli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Sinalização de valor (Porter, 1985):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nfatiza a importância dos detalhes quando os compradores não são capazes de discernir inteiramente as diferenças e as semelhanças entre produtos concorrent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O preço mais alto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também pode ser utilizado como elemento realçador da imag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EE9041-557F-46AA-884E-1C2A5F5B8179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Diferenciação por Suport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m estar diretamente ligada aos atributos do produto (intrínsecos), a diferenciação por suporte envolve a agregação de valor via </a:t>
            </a:r>
            <a:r>
              <a:rPr b="0" i="1" lang="pt-BR" sz="2400" spc="-1" strike="noStrike">
                <a:solidFill>
                  <a:srgbClr val="9999ff"/>
                </a:solidFill>
                <a:latin typeface="Arial"/>
              </a:rPr>
              <a:t>serviços periféricos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o assistência técnica, financiamento, menor prazo de entrega, manutenção, garantia ou com a oferta de produtos complementar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4CF15-F6EE-4211-85A3-B18B20DC9226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Diferenciação por Qualidade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Esta estratégia se caracteriza por oferecer (em nível de paridade de preço e custo ou a um custo mais alto compensado por preço de mercado também mais alto) um produto que, embora não fundamentalmente diferente, é melhor que os concorr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produto pode ser considerado melhor em </a:t>
            </a:r>
            <a:r>
              <a:rPr b="0" lang="pt-BR" sz="2400" spc="-1" strike="noStrike">
                <a:solidFill>
                  <a:srgbClr val="9999ff"/>
                </a:solidFill>
                <a:latin typeface="Arial"/>
              </a:rPr>
              <a:t>três dimensõe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</a:t>
            </a:r>
            <a:r>
              <a:rPr b="0" lang="pt-BR" sz="2400" spc="-1" strike="noStrike">
                <a:solidFill>
                  <a:srgbClr val="993300"/>
                </a:solidFill>
                <a:latin typeface="Arial"/>
              </a:rPr>
              <a:t>confiabilidad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menor probabilidade de falhas); </a:t>
            </a:r>
            <a:r>
              <a:rPr b="0" lang="pt-BR" sz="2400" spc="-1" strike="noStrike">
                <a:solidFill>
                  <a:srgbClr val="993300"/>
                </a:solidFill>
                <a:latin typeface="Arial"/>
              </a:rPr>
              <a:t>maior durabilidad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ou </a:t>
            </a:r>
            <a:r>
              <a:rPr b="0" lang="pt-BR" sz="2400" spc="-1" strike="noStrike">
                <a:solidFill>
                  <a:srgbClr val="993300"/>
                </a:solidFill>
                <a:latin typeface="Arial"/>
              </a:rPr>
              <a:t>desempenho superior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6B4FCA-D073-48F7-807A-66E57B5A0EB2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Diferenciação por </a:t>
            </a:r>
            <a:r>
              <a:rPr b="0" i="1" lang="pt-BR" sz="2500" spc="-1" strike="noStrike">
                <a:solidFill>
                  <a:srgbClr val="ffffff"/>
                </a:solidFill>
                <a:latin typeface="Arial"/>
              </a:rPr>
              <a:t>Design</a:t>
            </a: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 (Projeto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usca oferecer no mercado um produto diferente dos demais concorrentes e não apenas melhor (diferenciação por qualidade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produto apresentaria um visual ou funcionalidade diferente dos concorrent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027BA1-B32D-4132-9999-AE013977DFC3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Cronograma de Atividades da Disciplina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11/09 – Apresentação da disciplina. Estratégia. Ambiente competitivo. 5 Forças competitivas (Porter). Competências organizacionais. (Slides 01 ao 19). </a:t>
            </a:r>
            <a:r>
              <a:rPr b="0" lang="pt-BR" sz="1400" spc="-1" strike="noStrike">
                <a:solidFill>
                  <a:srgbClr val="993300"/>
                </a:solidFill>
                <a:latin typeface="Arial"/>
              </a:rPr>
              <a:t>Estudo de caso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: (¹) O desenvolvimento vem com novos investimentos. (²) Cervejaria Águia S/A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12/09 – Estratégias competitivas genéricas: Tipologia de Porter. (slides 20 ao 31).  </a:t>
            </a:r>
            <a:r>
              <a:rPr b="0" lang="pt-BR" sz="1400" spc="-1" strike="noStrike">
                <a:solidFill>
                  <a:srgbClr val="993300"/>
                </a:solidFill>
                <a:latin typeface="Arial"/>
              </a:rPr>
              <a:t>Atividade: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Análise das estratégias em nível empresarial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18/09 – Estratégias competitivas genéricas: Tipologias de Mintzberg e Miles &amp; Snow. (Slides 32 ao 45). Leitura recomendada: Referencial teórico(PUC-Rio; páginas 35 a 44). </a:t>
            </a:r>
            <a:r>
              <a:rPr b="0" lang="pt-BR" sz="1400" spc="-1" strike="noStrike">
                <a:solidFill>
                  <a:srgbClr val="993300"/>
                </a:solidFill>
                <a:latin typeface="Arial"/>
              </a:rPr>
              <a:t>Atividade: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omportamento estratégico através da tipologia de Miles &amp; Snow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19/09 – Estratégias competitivas genéricas: Tipologia baseada em recursos. Dimensões da estratégia competitiva. Grupos estratégicos. (Slides 46 a 54). </a:t>
            </a:r>
            <a:r>
              <a:rPr b="0" lang="pt-BR" sz="1400" spc="-1" strike="noStrike">
                <a:solidFill>
                  <a:srgbClr val="993300"/>
                </a:solidFill>
                <a:latin typeface="Arial"/>
              </a:rPr>
              <a:t>Atividade: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Como identificar os recursos estratégicos?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25/09 – Desempenho organizacional. (Slides 55 a 71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26/09 – Desempenho organizacional. (Slides 72 a 96). </a:t>
            </a:r>
            <a:r>
              <a:rPr b="0" lang="pt-BR" sz="1400" spc="-1" strike="noStrike">
                <a:solidFill>
                  <a:srgbClr val="993300"/>
                </a:solidFill>
                <a:latin typeface="Arial"/>
              </a:rPr>
              <a:t>Atividade: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Indicadores de desempenho.</a:t>
            </a:r>
            <a:r>
              <a:rPr b="0" lang="pt-BR" sz="1400" spc="-1" strike="noStrike">
                <a:solidFill>
                  <a:srgbClr val="9933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0D568B-CF22-4502-A1D4-D3F3E1956E1E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Não Diferenciação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em como foco a possibilidade de uma empresa imitar inovações de empresas concorrentes, desde que haja espaço no mercado para t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estratégia de não diferenciação assemelha-se ao conceito de meio-termo desenvolvido por Porter (1980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intzberg (1988)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Considera que a estratégia pode ser desenvolvida explicitamente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Não condena a estratégia a um desempenho inferior ao das demais estratégi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2072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7F25AC-74DE-4AB3-A642-6068143784ED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Tipologia de </a:t>
            </a: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Miles </a:t>
            </a: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&amp; Snow (1978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Busca avaliar a adaptação organizacional às mudanças do ambiente por meio do estudo da </a:t>
            </a:r>
            <a:r>
              <a:rPr b="0" lang="pt-BR" sz="2400" spc="-1" strike="noStrike">
                <a:solidFill>
                  <a:srgbClr val="993300"/>
                </a:solidFill>
                <a:latin typeface="Arial"/>
              </a:rPr>
              <a:t>relaç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ntre </a:t>
            </a:r>
            <a:r>
              <a:rPr b="0" lang="pt-BR" sz="2400" spc="-1" strike="noStrike">
                <a:solidFill>
                  <a:srgbClr val="993300"/>
                </a:solidFill>
                <a:latin typeface="Arial"/>
              </a:rPr>
              <a:t>estratégia, estrutura e process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93300"/>
                </a:solidFill>
                <a:latin typeface="Arial"/>
              </a:rPr>
              <a:t>Estratégia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definida pelo domínio produto-mercad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993300"/>
                </a:solidFill>
                <a:latin typeface="Arial"/>
              </a:rPr>
              <a:t>Estrutura e Processos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: mecanismos através dos quais se implementa a estratég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993300"/>
                </a:solidFill>
                <a:latin typeface="Arial"/>
              </a:rPr>
              <a:t>Ciclo adaptativ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adaptação da estratégia ao ambiente competitivo. Suas etapas consistem nas soluções dadas aos seguintes problem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EAC0EE-F2FC-4BCB-9729-73AF5CEF2511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Tipologia Miles &amp; Snow (1978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9"/>
                </a:solidFill>
                <a:latin typeface="Arial"/>
              </a:rPr>
              <a:t>Empresariai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domínio produto-mercado; postura de sucesso; monitoração do ambiente e política de cresciment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9"/>
                </a:solidFill>
                <a:latin typeface="Arial"/>
              </a:rPr>
              <a:t>Tecnológicos/Produtiv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objetivos tecnológicos; amplitude tecnológica e orientação tecnológ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99"/>
                </a:solidFill>
                <a:latin typeface="Arial"/>
              </a:rPr>
              <a:t>Administrativos/Estruturai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: função administrativa dominante; atitude de planejamento; estrutura organizacional e contro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EAE45E-5E67-4A33-AC8B-01C8C65A6D04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Tipologia Miles &amp; Snow (1978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00"/>
                </a:solidFill>
                <a:latin typeface="Arial"/>
              </a:rPr>
              <a:t>Categorias Estratégicas: Prospect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dotam postura agressiva em busca de novas oportunidades. </a:t>
            </a: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Soluções para os problemas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00"/>
                </a:solidFill>
                <a:latin typeface="Arial"/>
              </a:rPr>
              <a:t>Investem alto em pesquisa e desenvolvime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00"/>
                </a:solidFill>
                <a:latin typeface="Arial"/>
              </a:rPr>
              <a:t>Adquirem empresas menores com novos negócios ou produt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00"/>
                </a:solidFill>
                <a:latin typeface="Arial"/>
              </a:rPr>
              <a:t>Geralmente iniciam mudanças na indústria em que atuam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00"/>
                </a:solidFill>
                <a:latin typeface="Arial"/>
              </a:rPr>
              <a:t>Ampliam continuamente o domínio produto-mercado (diferenciação ou baixo custo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00"/>
                </a:solidFill>
                <a:latin typeface="Arial"/>
              </a:rPr>
              <a:t>Tecnologia é diversificada, flexível e pouco padronizad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00"/>
                </a:solidFill>
                <a:latin typeface="Arial"/>
              </a:rPr>
              <a:t>Controle não centralizad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00"/>
                </a:solidFill>
                <a:latin typeface="Arial"/>
              </a:rPr>
              <a:t>Departamento forte de marketing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00"/>
                </a:solidFill>
                <a:latin typeface="Arial"/>
              </a:rPr>
              <a:t>Amplo planejament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3300"/>
                </a:solidFill>
                <a:latin typeface="Arial"/>
              </a:rPr>
              <a:t>Desempenho avaliado em função do </a:t>
            </a:r>
            <a:r>
              <a:rPr b="0" i="1" lang="pt-BR" sz="1600" spc="-1" strike="noStrike">
                <a:solidFill>
                  <a:srgbClr val="003300"/>
                </a:solidFill>
                <a:latin typeface="Arial"/>
              </a:rPr>
              <a:t>market share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 e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volume de vendas</a:t>
            </a:r>
            <a:r>
              <a:rPr b="0" i="1" lang="pt-BR" sz="16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00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43804-E51E-4B83-B202-5BF660125234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Tipologia Miles &amp; Snow (1978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00"/>
                </a:solidFill>
                <a:latin typeface="Arial"/>
              </a:rPr>
              <a:t>Categoria Estratégica: Defens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dotam postura quase que oposta aos prospectores, pois procuram defender e garantir a posição em que se encontram. </a:t>
            </a:r>
            <a:r>
              <a:rPr b="0" lang="pt-BR" sz="1800" spc="-1" strike="noStrike" u="sng">
                <a:solidFill>
                  <a:srgbClr val="000000"/>
                </a:solidFill>
                <a:uFillTx/>
                <a:latin typeface="Arial"/>
              </a:rPr>
              <a:t>Soluções para os problema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Competem nas dimensões de preço e qualida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dotam uma linha de produtos limitada, segmentada e mais lucrativ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Utilizam uma tecnologia principal, gerando baixo custo na produçã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vestimentos significativos em P&amp;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Integração vertic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Administração rigorosa, controlada e centralizada, voltada para custos e resultad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00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Uso da comparação dos indicadores financeiros e produtivos do ano com os anos anterior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312CE1-E02A-4739-9BBB-B6E779C9101C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Tipologia Miles &amp; Snow (1978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00"/>
                </a:solidFill>
                <a:latin typeface="Arial"/>
              </a:rPr>
              <a:t>Categoria Estratégica: Analisado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3300"/>
                </a:solidFill>
                <a:latin typeface="Arial"/>
              </a:rPr>
              <a:t>Buscam novos mercados e produtos, mas garantem seus produtos e mercados atuais. São também chamadas de ‘imitadores criativos’, por absorverem e melhorarem inovações dos concorrentes. </a:t>
            </a:r>
            <a:r>
              <a:rPr b="0" lang="pt-BR" sz="2000" spc="-1" strike="noStrike" u="sng">
                <a:solidFill>
                  <a:srgbClr val="003300"/>
                </a:solidFill>
                <a:uFillTx/>
                <a:latin typeface="Arial"/>
              </a:rPr>
              <a:t>Soluções para os problem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00"/>
                </a:solidFill>
                <a:latin typeface="Arial"/>
              </a:rPr>
              <a:t>Monitoramento constante dos sucessos e fracassos das empresas prospectoras concorrent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00"/>
                </a:solidFill>
                <a:latin typeface="Arial"/>
              </a:rPr>
              <a:t>Tecnologia adota é estável e padronizad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00"/>
                </a:solidFill>
                <a:latin typeface="Arial"/>
              </a:rPr>
              <a:t>Organizam sua estrutura de forma matricial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3300"/>
                </a:solidFill>
                <a:latin typeface="Arial"/>
              </a:rPr>
              <a:t>Engenharia de produto e marketing são os principais focos de atenção e investiment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3EE929-EE86-4CFC-9F84-493D5E803C7A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Tipologia Miles &amp; Snow (1978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3300"/>
                </a:solidFill>
                <a:latin typeface="Arial"/>
              </a:rPr>
              <a:t>Categoria Empresarial: Contra Atacantes (Reativos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penas reagem às ações das outras empresas quando são força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ão conseguem definir uma estratégia específica em função de um </a:t>
            </a:r>
            <a:r>
              <a:rPr b="0" lang="pt-BR" sz="2000" spc="-1" strike="noStrike">
                <a:solidFill>
                  <a:srgbClr val="0066ff"/>
                </a:solidFill>
                <a:latin typeface="Arial"/>
              </a:rPr>
              <a:t>líder centralizador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, ou pela </a:t>
            </a:r>
            <a:r>
              <a:rPr b="0" lang="pt-BR" sz="2000" spc="-1" strike="noStrike">
                <a:solidFill>
                  <a:srgbClr val="0066ff"/>
                </a:solidFill>
                <a:latin typeface="Arial"/>
              </a:rPr>
              <a:t>contradiçã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entre a estratégia escolhida e a estrutura organizacional adotada ou pela </a:t>
            </a:r>
            <a:r>
              <a:rPr b="0" lang="pt-BR" sz="2000" spc="-1" strike="noStrike">
                <a:solidFill>
                  <a:srgbClr val="0066ff"/>
                </a:solidFill>
                <a:latin typeface="Arial"/>
              </a:rPr>
              <a:t>não adaptação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 da estratégia ao ambiente competitiv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 u="sng">
                <a:solidFill>
                  <a:srgbClr val="000000"/>
                </a:solidFill>
                <a:uFillTx/>
                <a:latin typeface="Arial"/>
              </a:rPr>
              <a:t>Soluções para os problema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51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Adequar seu processo produtivo, a rede de distribuição e logística, a política de preços, os esforços de promoção e marketing e demais processos envolvidos de forma a apoiar a postura selecionada.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>
              <a:spcBef>
                <a:spcPts val="451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B5FDF4-FF38-4A7F-8C00-1B0A091B9EEF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Tipologia Baseada em Recursos (</a:t>
            </a:r>
            <a:r>
              <a:rPr b="0" i="1" lang="pt-BR" sz="2500" spc="-1" strike="noStrike">
                <a:solidFill>
                  <a:srgbClr val="0066ff"/>
                </a:solidFill>
                <a:latin typeface="Arial"/>
              </a:rPr>
              <a:t>Resource Based View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urante a década de 1980, o principal foco da análise estratégica foi a ligação entre o </a:t>
            </a:r>
            <a:r>
              <a:rPr b="0" lang="pt-BR" sz="2400" spc="-1" strike="noStrike">
                <a:solidFill>
                  <a:srgbClr val="0066ff"/>
                </a:solidFill>
                <a:latin typeface="Arial"/>
              </a:rPr>
              <a:t>ambiente extern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(a estrutura da indústria), </a:t>
            </a:r>
            <a:r>
              <a:rPr b="0" lang="pt-BR" sz="2400" spc="-1" strike="noStrike">
                <a:solidFill>
                  <a:srgbClr val="0066ff"/>
                </a:solidFill>
                <a:latin typeface="Arial"/>
              </a:rPr>
              <a:t>a estratégia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 o consequente desempenho das empresas, sendo praticamente desprezada a relação entre os </a:t>
            </a:r>
            <a:r>
              <a:rPr b="0" lang="pt-BR" sz="2400" spc="-1" strike="noStrike">
                <a:solidFill>
                  <a:srgbClr val="0066ff"/>
                </a:solidFill>
                <a:latin typeface="Arial"/>
              </a:rPr>
              <a:t>recursos e competênci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da empresa e sua </a:t>
            </a:r>
            <a:r>
              <a:rPr b="0" lang="pt-BR" sz="2400" spc="-1" strike="noStrike">
                <a:solidFill>
                  <a:srgbClr val="0066ff"/>
                </a:solidFill>
                <a:latin typeface="Arial"/>
              </a:rPr>
              <a:t>escolha estratégic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D07C0-6E3D-4D8E-B394-3979DF2B9BED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Tipologia Baseada em Recursos (</a:t>
            </a:r>
            <a:r>
              <a:rPr b="0" i="1" lang="pt-BR" sz="2500" spc="-1" strike="noStrike">
                <a:solidFill>
                  <a:srgbClr val="0066ff"/>
                </a:solidFill>
                <a:latin typeface="Arial"/>
              </a:rPr>
              <a:t>Resource Based View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Vários estudos empíricos (Cubbin e Geroski, 1996; Rumelt, 1991; Prahalad e Hamel, 1990) mostram que a influência das características das empresas sobre suas rentabilidades relativas e muito mais significativa do que a influência da indústria à qual as empresas pertencem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stes autores estudaram as </a:t>
            </a:r>
            <a:r>
              <a:rPr b="0" lang="pt-BR" sz="2000" spc="-1" strike="noStrike">
                <a:solidFill>
                  <a:srgbClr val="ff0000"/>
                </a:solidFill>
                <a:latin typeface="Arial"/>
              </a:rPr>
              <a:t>características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necessárias dos recursos para que estes se tornassem uma fonte de vantagem competitiva sustentável, a </a:t>
            </a:r>
            <a:r>
              <a:rPr b="0" lang="pt-BR" sz="2000" spc="-1" strike="noStrike">
                <a:solidFill>
                  <a:srgbClr val="0066ff"/>
                </a:solidFill>
                <a:latin typeface="Arial"/>
              </a:rPr>
              <a:t>influência das barreiras de imitação sobre as diferenças de rentabilidade entre as empresas, </a:t>
            </a:r>
            <a:r>
              <a:rPr b="0" lang="pt-BR" sz="2000" spc="-1" strike="noStrike">
                <a:solidFill>
                  <a:srgbClr val="993300"/>
                </a:solidFill>
                <a:latin typeface="Arial"/>
              </a:rPr>
              <a:t>o papel da história da empresa na obtenção e desenvolvimento de competências organizacionais criticas</a:t>
            </a:r>
            <a:r>
              <a:rPr b="0" lang="pt-BR" sz="2000" spc="-1" strike="noStrike">
                <a:solidFill>
                  <a:srgbClr val="0066ff"/>
                </a:solidFill>
                <a:latin typeface="Arial"/>
              </a:rPr>
              <a:t>, </a:t>
            </a:r>
            <a:r>
              <a:rPr b="0" lang="pt-BR" sz="2000" spc="-1" strike="noStrike">
                <a:solidFill>
                  <a:srgbClr val="6666cc"/>
                </a:solidFill>
                <a:latin typeface="Arial"/>
              </a:rPr>
              <a:t>a</a:t>
            </a:r>
            <a:r>
              <a:rPr b="0" lang="pt-BR" sz="2000" spc="-1" strike="noStrike">
                <a:solidFill>
                  <a:srgbClr val="0066ff"/>
                </a:solidFill>
                <a:latin typeface="Arial"/>
              </a:rPr>
              <a:t> </a:t>
            </a:r>
            <a:r>
              <a:rPr b="0" lang="pt-BR" sz="2000" spc="-1" strike="noStrike">
                <a:solidFill>
                  <a:srgbClr val="6666cc"/>
                </a:solidFill>
                <a:latin typeface="Arial"/>
              </a:rPr>
              <a:t>importância das diferenças das rotinas organizacionais para explicar as diferenças de rentabilidade entre as empresas</a:t>
            </a:r>
            <a:r>
              <a:rPr b="0" lang="pt-BR" sz="2000" spc="-1" strike="noStrike">
                <a:solidFill>
                  <a:srgbClr val="0066ff"/>
                </a:solidFill>
                <a:latin typeface="Arial"/>
              </a:rPr>
              <a:t>,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etc</a:t>
            </a:r>
            <a:r>
              <a:rPr b="0" lang="pt-BR" sz="2000" spc="-1" strike="noStrike">
                <a:solidFill>
                  <a:srgbClr val="0066ff"/>
                </a:solidFill>
                <a:latin typeface="Arial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1CDF8-DDFC-4F59-8254-BB6080EEF1AF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Tipologia Baseada em Recursos (</a:t>
            </a:r>
            <a:r>
              <a:rPr b="0" i="1" lang="pt-BR" sz="2500" spc="-1" strike="noStrike">
                <a:solidFill>
                  <a:srgbClr val="0066ff"/>
                </a:solidFill>
                <a:latin typeface="Arial"/>
              </a:rPr>
              <a:t>Resource Based View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RBV fornece uma análise mais consistente das forças e fraquezas da empresa, pois introduz um entendimento superior das condições para a empresa obter uma vantagem competitiva sustentáv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entro do enfoque da RBV, a origem básica da rentabilidade da empresa são alguns recursos valiosos, escassos, sem substitutos e de difícil imitaçã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Nesta visão, a estratégia competitiva é a arte de criação, acumulação e utilização destes recurs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C026C-DF80-4D30-B34F-64F6FE886A32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ffffff"/>
                </a:solidFill>
                <a:latin typeface="Arial"/>
              </a:rPr>
              <a:t>ESTRATÉGIA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incipal objetivo das empresas: desempenho superior sustentá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incipais variáveis para a compreensão deste fenômeno: a) a estrutura da indústria(¹); b) o ambiente competitivo; c) os processos organizacionais; d) as estratégias competitiv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(¹) </a:t>
            </a:r>
            <a:r>
              <a:rPr b="0" lang="pt-BR" sz="1600" spc="-1" strike="noStrike">
                <a:solidFill>
                  <a:srgbClr val="000000"/>
                </a:solidFill>
                <a:latin typeface="Arial"/>
              </a:rPr>
              <a:t>O conceito de indústria utilizado segue definição de Porter (1979:215): “grupo de competidores produzindo substitutos similares o suficiente para fazer com que o comportamento de uma empresa afete cada uma das demais, direta ou indiretamente”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14769-7138-458F-88BE-C381F51DDC2D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Tipologia Baseada em Recursos (</a:t>
            </a:r>
            <a:r>
              <a:rPr b="0" lang="pt-BR" sz="2500" spc="-1" strike="noStrike">
                <a:solidFill>
                  <a:srgbClr val="0066ff"/>
                </a:solidFill>
                <a:latin typeface="Arial"/>
              </a:rPr>
              <a:t>Resource</a:t>
            </a:r>
            <a:r>
              <a:rPr b="0" i="1" lang="pt-BR" sz="2500" spc="-1" strike="noStrike">
                <a:solidFill>
                  <a:srgbClr val="0066ff"/>
                </a:solidFill>
                <a:latin typeface="Arial"/>
              </a:rPr>
              <a:t> Based View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Distinção entre Recursos e Competência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cursos: seriam elementos básicos, não específicos, que podem ser adquiridos ou imitados em certo grau, tais como equipamentos, recursos financeiros, tecnologia, marca, etc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petências: seriam elementos de nível superior, específicos da empresa, resultantes do aprendizado organizacional e da combinação única de vários recurs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Competências Essenciais (</a:t>
            </a:r>
            <a:r>
              <a:rPr b="0" i="1" lang="pt-BR" sz="2000" spc="-1" strike="noStrike">
                <a:solidFill>
                  <a:srgbClr val="6666cc"/>
                </a:solidFill>
                <a:latin typeface="Arial"/>
              </a:rPr>
              <a:t>Core Competencies)</a:t>
            </a: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: são o aprendizado coletivo da organização, especialmente de como coordenar diversos recursos e tecnologi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D4014B-7FE6-4773-B2FC-A57287572F3D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Tipologia Baseada em Recursos (</a:t>
            </a:r>
            <a:r>
              <a:rPr b="0" i="1" lang="pt-BR" sz="2500" spc="-1" strike="noStrike">
                <a:solidFill>
                  <a:srgbClr val="0066ff"/>
                </a:solidFill>
                <a:latin typeface="Arial"/>
              </a:rPr>
              <a:t>Resource Based View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RBV sugere que a formulação da estratégia seja iniciada pela identificação dos recursos e competências existentes na empresa (interno), seguida pela avaliação da sustentabilidade da vantagem competitiva que eles podem proporcionar, para então escolher a estratégia que melhor utilize esses recursos e competências para explorar as oportunidades e/ou neutralizar as ameaças do seu ambiente extern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ED8E95-229A-4450-B899-D38211E670AE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Tipologia Baseada em Recursos (</a:t>
            </a:r>
            <a:r>
              <a:rPr b="0" i="1" lang="pt-BR" sz="2500" spc="-1" strike="noStrike">
                <a:solidFill>
                  <a:srgbClr val="0066ff"/>
                </a:solidFill>
                <a:latin typeface="Arial"/>
              </a:rPr>
              <a:t>Resource Based View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rahalad e Hamel (1990) consideram que </a:t>
            </a:r>
            <a:r>
              <a:rPr b="0" lang="pt-BR" sz="2400" spc="-1" strike="noStrike">
                <a:solidFill>
                  <a:srgbClr val="993300"/>
                </a:solidFill>
                <a:latin typeface="Arial"/>
              </a:rPr>
              <a:t>apenas no curto praz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a vantagem competitiva de uma empresa deriva dos atributos de preço e desempenho de seus produtos, pois </a:t>
            </a:r>
            <a:r>
              <a:rPr b="0" lang="pt-BR" sz="2400" spc="-1" strike="noStrike">
                <a:solidFill>
                  <a:srgbClr val="993300"/>
                </a:solidFill>
                <a:latin typeface="Arial"/>
              </a:rPr>
              <a:t>no longo praz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esta seria decorrente da capacidade de desenvolver internamente, ao menor custo e mais rapidamente que os concorrentes, as competências que permitem a criação de muitos produtos nov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2FAB63-3E3F-41A9-A767-AF435744F15F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Dimensões da Estratégia Competitiva (Porter,1996)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rau de especializa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dentificação de marca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lítica de distribuição (canal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eleção dos canais de distribuiçã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Qualidade do produ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Liderança tecnológic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Integração vertic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sição de cus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tendiment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olítica de preç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rau de alavancage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lacionamento com a matriz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Relacionamento com os governos do país de origem e anfitriõ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CAFF55-3A7B-444E-B6A5-33B9538C64A2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ffffff"/>
                </a:solidFill>
                <a:latin typeface="Arial"/>
              </a:rPr>
              <a:t>GRUPOS ESTRATÉGICO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Grupos de empresas que utilizam estratégias idênticas ou semelhantes numa mesma indústria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existência não é certa, mas prováve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Sua análise permite uma visão intermediária entre a global (da indústria) e a individual (de cada empresa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lnSpc>
                <a:spcPct val="90000"/>
              </a:lnSpc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s grupos estratégicos também tem em comum a relação com as 5 Forças. O poder de negociação com compradores, fornecedores e a suscetibilidade a certos produtos substitutos tende a ser semelhante entre as empresas de um determinado grup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8B421-47EE-4C6D-A7B5-F751B6B02A39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ffffff"/>
                </a:solidFill>
                <a:latin typeface="Arial"/>
              </a:rPr>
              <a:t>GRUPOS ESTRATÉGICOS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presença de mais de um grupo estratégico em uma indústria influencia diretamente a rivalidade entre os concorrentes cuja intensidade de interrelação pode ser determinada em função de 4 fatore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interdependência no mercado entre os grupos ou o grau de interdependência dos clientes visado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O grau de diferenciação atingida pelos grup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A quantidade e tamanho dos grupos estratégicos; e 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Distanciamento estratégico entre os grupo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Espaço Reservado para Número de Slid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AB32DD-A8F7-4F30-B22C-219AEA2A0FFE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Text Box 2"/>
          <p:cNvSpPr/>
          <p:nvPr/>
        </p:nvSpPr>
        <p:spPr>
          <a:xfrm>
            <a:off x="208440" y="2997360"/>
            <a:ext cx="89938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400" spc="-1" strike="noStrike">
                <a:solidFill>
                  <a:srgbClr val="000000"/>
                </a:solidFill>
                <a:latin typeface="Tahoma"/>
              </a:rPr>
              <a:t>DESEMPENHO ORGANIZAC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954F9E-FDB7-4141-ADC0-2FE05F70322D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ffffff"/>
                </a:solidFill>
                <a:latin typeface="Arial"/>
              </a:rPr>
              <a:t>AVALIAÇÃO DE DESEMPENH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ois grupos de clientes da informaçã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Extern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(acionistas, instituições financeiras, entidades governamentais, sindicatos, etc.): informações geradas pela contabilidade financeira e complementada pelas técnicas de análise de demonstrações financeiras;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</a:rPr>
              <a:t>Interno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 (administradores o grupo mais importante de usuários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500"/>
                            </p:stCondLst>
                            <p:childTnLst>
                              <p:par>
                                <p:cTn id="1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E4145E-E472-4F46-9AF0-EE55F15F346A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ffffff"/>
                </a:solidFill>
                <a:latin typeface="Arial"/>
              </a:rPr>
              <a:t>AVALIAÇÃO DE DESEMPENH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spectos a serem discutidos na avaliação de desempenh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Porque medi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O que medi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Como medir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2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fill="hold">
                            <p:stCondLst>
                              <p:cond delay="500"/>
                            </p:stCondLst>
                            <p:childTnLst>
                              <p:par>
                                <p:cTn id="2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C9095-4901-4E8E-AF53-EEF22C53E0E4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ffffff"/>
                </a:solidFill>
                <a:latin typeface="Arial"/>
              </a:rPr>
              <a:t>AVALIAÇÃO DE DESEMPENH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RQUE MEDI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Toda organização precisa ter um processo contínuo de avaliação do seu desempenh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Se você não pode medir, então não pode controlar”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lquer ação a ser implementada em uma empresa precisa de um acompanhamento para saber se está em consonância com a missã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" dur="indefinite" restart="never" nodeType="tmRoot">
          <p:childTnLst>
            <p:seq>
              <p:cTn id="26" dur="indefinite" nodeType="mainSeq">
                <p:childTnLst>
                  <p:par>
                    <p:cTn id="27" fill="hold">
                      <p:stCondLst>
                        <p:cond delay="0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" fill="hold">
                            <p:stCondLst>
                              <p:cond delay="500"/>
                            </p:stCondLst>
                            <p:childTnLst>
                              <p:par>
                                <p:cTn id="3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Espaço Reservado para Número de Slide 7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3D85B-916D-4F8A-A730-A454D61A52AA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ffffff"/>
                </a:solidFill>
                <a:latin typeface="Arial"/>
              </a:rPr>
              <a:t>ESTRATÉGIA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38894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A escola de pensament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Resource Based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sugere que os principais fatores envolvidos no alcance do desempenho superior são: as pessoas, a cultura e o clima organiza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MCj04375270000[1]"/>
          <p:cNvPicPr/>
          <p:nvPr/>
        </p:nvPicPr>
        <p:blipFill>
          <a:blip r:embed="rId1"/>
          <a:stretch/>
        </p:blipFill>
        <p:spPr>
          <a:xfrm>
            <a:off x="5686560" y="2176560"/>
            <a:ext cx="2144520" cy="1631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239E60-FBB5-4DFD-AC37-BB57A1508758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ffffff"/>
                </a:solidFill>
                <a:latin typeface="Arial"/>
              </a:rPr>
              <a:t>AVALIAÇÃO DE DESEMPENH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0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s sistemas de medição de desempenho devem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trolar as atividades operacionais da empresa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limentar os sistemas de incentivo dos funcionário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Conduzir estratégias competitiva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0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2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500"/>
                            </p:stCondLst>
                            <p:childTnLst>
                              <p:par>
                                <p:cTn id="4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8" dur="5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0A963D-4F8A-4A44-8738-12FA49DD1197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ffffff"/>
                </a:solidFill>
                <a:latin typeface="Arial"/>
              </a:rPr>
              <a:t>AVALIAÇÃO DE DESEMPENH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Identificar problemas que necessitem intervenção dos gestores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Verificar se a missão da empresa está sendo atingida (esta resume todas as demais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" fill="hold">
                            <p:stCondLst>
                              <p:cond delay="500"/>
                            </p:stCondLst>
                            <p:childTnLst>
                              <p:par>
                                <p:cTn id="5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3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2477C8-1688-4041-B41E-85FF0541EC34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ffffff"/>
                </a:solidFill>
                <a:latin typeface="Arial"/>
              </a:rPr>
              <a:t>AVALIAÇÃO DE DESEMPENH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6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O QUE MEDIR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Um dos principais problemas da avaliação de desempenho é a definição precisa do que se quer med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De um modo geral, quando falamos em avaliar desempenho, estamos nos referindo à verificação da realização de um objetivo ou me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fill="hold">
                      <p:stCondLst>
                        <p:cond delay="0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" fill="hold">
                            <p:stCondLst>
                              <p:cond delay="500"/>
                            </p:stCondLst>
                            <p:childTnLst>
                              <p:par>
                                <p:cTn id="7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A99578-F972-497A-B64A-8E8A6C4C0B96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ffffff"/>
                </a:solidFill>
                <a:latin typeface="Arial"/>
              </a:rPr>
              <a:t>AVALIAÇÃO DE DESEMPENH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ara avaliarmos o desempenho de uma empresa é preciso definir quais os atributos importantes da medição do desempenho e compará-los com características que julgamos importantes em relação a um objetivo que definim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No passado as empresas utilizavam exclusivamente análise financei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fill="hold">
                      <p:stCondLst>
                        <p:cond delay="0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500"/>
                            </p:stCondLst>
                            <p:childTnLst>
                              <p:par>
                                <p:cTn id="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4" dur="500"/>
                                        <p:tgtEl>
                                          <p:spTgt spid="3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DD8535-3251-4BB7-9BB7-A31AEAB222B7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ffffff"/>
                </a:solidFill>
                <a:latin typeface="Arial"/>
              </a:rPr>
              <a:t>AVALIAÇÃO DE DESEMPENH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2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Medidas financeiras mais comuns: retorno sobre as vendas, o lucro, retorno sobre o investimento, variação dos preços, vendas por empregados, o lucro por unidade de produção, produtividade, etc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Modelo DuPont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000" spc="-1" strike="noStrike">
                <a:solidFill>
                  <a:srgbClr val="000000"/>
                </a:solidFill>
                <a:latin typeface="Arial"/>
              </a:rPr>
              <a:t>EBITDA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0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500"/>
                            </p:stCondLst>
                            <p:childTnLst>
                              <p:par>
                                <p:cTn id="9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1618D4-3A71-47C8-89DD-3B8A9FE3CECD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ffffff"/>
                </a:solidFill>
                <a:latin typeface="Arial"/>
              </a:rPr>
              <a:t>AVALIAÇÃO DE DESEMPENH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s medidas financeiras tradicionais apresentam falta de flexibilidade, inadequação face ao novo ambiente competitivo, rápida desatualização e dificuldades de quantificação dos melhoramentos em termos monetários (redução de </a:t>
            </a:r>
            <a:r>
              <a:rPr b="0" i="1" lang="pt-BR" sz="3200" spc="-1" strike="noStrike">
                <a:solidFill>
                  <a:srgbClr val="000000"/>
                </a:solidFill>
                <a:latin typeface="Arial"/>
              </a:rPr>
              <a:t>lead-time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, satisfação do cliente, qualidade do produto, etc.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500"/>
                            </p:stCondLst>
                            <p:childTnLst>
                              <p:par>
                                <p:cTn id="10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8" dur="5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C474C7-32B5-4BF5-9C6D-4AC6A2B82491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ffffff"/>
                </a:solidFill>
                <a:latin typeface="Arial"/>
              </a:rPr>
              <a:t>AVALIAÇÃO DE DESEMPENH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8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Medidas financeiras não são suficientes, pois só habilitam os tomadores de decisão a reagir ao que já acontece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s medidas financeiras não possuem capacidade preditiva (a tomada de decisão deve ser proativ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s medidas financeiras ajudam os gestores a reagirem ao que já aconteceu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5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500"/>
                            </p:stCondLst>
                            <p:childTnLst>
                              <p:par>
                                <p:cTn id="11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23A7AB-D892-4C61-89EB-861000180E96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ffffff"/>
                </a:solidFill>
                <a:latin typeface="Arial"/>
              </a:rPr>
              <a:t>AVALIAÇÃO DE DESEMPENH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1" name=""/>
          <p:cNvSpPr txBox="1"/>
          <p:nvPr/>
        </p:nvSpPr>
        <p:spPr>
          <a:xfrm>
            <a:off x="685800" y="1599840"/>
            <a:ext cx="7772400" cy="487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s medidas financeiras tradicionais são apenas indicadoras do sucesso da organização, não permitindo identificar a contribuição de cada uma das diferentes áreas da empresa para esse suces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0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" fill="hold">
                            <p:stCondLst>
                              <p:cond delay="500"/>
                            </p:stCondLst>
                            <p:childTnLst>
                              <p:par>
                                <p:cTn id="13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2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A93374-BB2A-4366-9233-0F314016C077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ffffff"/>
                </a:solidFill>
                <a:latin typeface="Arial"/>
              </a:rPr>
              <a:t>AVALIAÇÃO DE DESEMPENH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A utilidade da informação é determinada por sua relevância quanto a seus próprios objetivos, sua oportunidade, sua precisão e forma de sua apresentaçã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0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500"/>
                            </p:stCondLst>
                            <p:childTnLst>
                              <p:par>
                                <p:cTn id="14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4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5BAC3-C459-4D45-9F6C-AC7152D260C5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ffffff"/>
                </a:solidFill>
                <a:latin typeface="Arial"/>
              </a:rPr>
              <a:t>AVALIAÇÃO DE DESEMPENH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MO MEDIR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É preciso definir o conjunto de indicadores que irá operacionalizar a medição de desempenho, ou seja, as medidas que irão ser usadas no sistema de diagnóstico do desempenh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Indicador 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erformance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 é uma medida de desempenho comparativa usada para responder a questão: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como nós estamos indo?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” (Harbour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500"/>
                            </p:stCondLst>
                            <p:childTnLst>
                              <p:par>
                                <p:cTn id="15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6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DBE22E-DB9E-4412-BB67-D9C603F71A5C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ffffff"/>
                </a:solidFill>
                <a:latin typeface="Arial"/>
              </a:rPr>
              <a:t>ESTRATÉGIA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O termo estratégia vem do greg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stratego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, e significa “a arte do general” (Evered, 1983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intzberg (1987) identificou o que chamou de 5 P’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Plan (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lano de açã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Play (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manobr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Pattern (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adrã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Position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(posicionamento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000" spc="-1" strike="noStrike">
                <a:solidFill>
                  <a:srgbClr val="000000"/>
                </a:solidFill>
                <a:latin typeface="Arial"/>
              </a:rPr>
              <a:t>Perspective (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</a:rPr>
              <a:t>perspectiva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4"/>
          <p:cNvSpPr/>
          <p:nvPr/>
        </p:nvSpPr>
        <p:spPr>
          <a:xfrm>
            <a:off x="3708360" y="3860640"/>
            <a:ext cx="142920" cy="648000"/>
          </a:xfrm>
          <a:custGeom>
            <a:avLst/>
            <a:gdLst>
              <a:gd name="textAreaLeft" fmla="*/ 0 w 142920"/>
              <a:gd name="textAreaRight" fmla="*/ 51480 w 142920"/>
              <a:gd name="textAreaTop" fmla="*/ 16560 h 648000"/>
              <a:gd name="textAreaBottom" fmla="*/ 631440 h 648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5"/>
          <p:cNvSpPr/>
          <p:nvPr/>
        </p:nvSpPr>
        <p:spPr>
          <a:xfrm>
            <a:off x="3908160" y="3952800"/>
            <a:ext cx="1838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Intencionalidad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6"/>
          <p:cNvSpPr/>
          <p:nvPr/>
        </p:nvSpPr>
        <p:spPr>
          <a:xfrm>
            <a:off x="4284720" y="4581360"/>
            <a:ext cx="142920" cy="719280"/>
          </a:xfrm>
          <a:custGeom>
            <a:avLst/>
            <a:gdLst>
              <a:gd name="textAreaLeft" fmla="*/ 0 w 142920"/>
              <a:gd name="textAreaRight" fmla="*/ 51480 w 142920"/>
              <a:gd name="textAreaTop" fmla="*/ 18720 h 719280"/>
              <a:gd name="textAreaBottom" fmla="*/ 700560 h 719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7"/>
          <p:cNvSpPr/>
          <p:nvPr/>
        </p:nvSpPr>
        <p:spPr>
          <a:xfrm>
            <a:off x="4572000" y="472428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8"/>
          <p:cNvSpPr/>
          <p:nvPr/>
        </p:nvSpPr>
        <p:spPr>
          <a:xfrm>
            <a:off x="4556520" y="4673520"/>
            <a:ext cx="3209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</a:rPr>
              <a:t>Emergente ou não intenciona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23DEEF-FE71-4528-97A3-21D83D5A2237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ffffff"/>
                </a:solidFill>
                <a:latin typeface="Arial"/>
              </a:rPr>
              <a:t>AVALIAÇÃO DE DESEMPENH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0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Metodologia de Projeto de Sistemas de Controle de Desempenho (SCD)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Esta metodologia pressupõe duas fases distintas de projeto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A primeira compreende a definição do que deverá estar contido no SCD, conhecida como fase de especificação dos requisitos. Esta fase corresponde, basicamente, à definição das medidas de desempenh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669999"/>
              </a:buClr>
              <a:buSzPct val="65000"/>
              <a:buFont typeface="Wingdings" charset="2"/>
              <a:buChar char="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Arial"/>
              </a:rPr>
              <a:t>A segunda fase deve deliberar sobre como essas informações serão obtida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0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244F1-A849-4F0B-B680-47195B2EABA8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ffffff"/>
                </a:solidFill>
                <a:latin typeface="Arial"/>
              </a:rPr>
              <a:t>AVALIAÇÃO DE DESEMPENH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3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Fase de Especificação dos Requisitos do SCD: Definição das Medidas de Desempenh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esdobramento das Vertentes Estratégicas Priorizada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partir da declaração de missão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da empres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Deverá haver um detalhamento da declaração de missão, seus objetivos e os objetivos de cada área funciona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5" dur="indefinite" restart="never" nodeType="tmRoot">
          <p:childTnLst>
            <p:seq>
              <p:cTn id="166" dur="indefinite" nodeType="mainSeq">
                <p:childTnLst>
                  <p:par>
                    <p:cTn id="167" fill="hold">
                      <p:stCondLst>
                        <p:cond delay="0"/>
                      </p:stCondLst>
                      <p:childTnLst>
                        <p:par>
                          <p:cTn id="168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5AA45F-8127-456A-96A0-E896483D9F2D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ffffff"/>
                </a:solidFill>
                <a:latin typeface="Arial"/>
              </a:rPr>
              <a:t>AVALIAÇÃO DE DESEMPENH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6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ara a derivação dos indicadores é necessário o estabelecimento do plano de açã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7" name="Group 4"/>
          <p:cNvGrpSpPr/>
          <p:nvPr/>
        </p:nvGrpSpPr>
        <p:grpSpPr>
          <a:xfrm>
            <a:off x="990720" y="3048120"/>
            <a:ext cx="7238880" cy="3429000"/>
            <a:chOff x="990720" y="3048120"/>
            <a:chExt cx="7238880" cy="3429000"/>
          </a:xfrm>
        </p:grpSpPr>
        <p:sp>
          <p:nvSpPr>
            <p:cNvPr id="338" name="Text Box 5"/>
            <p:cNvSpPr/>
            <p:nvPr/>
          </p:nvSpPr>
          <p:spPr>
            <a:xfrm>
              <a:off x="2225520" y="3337200"/>
              <a:ext cx="32040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 Narrow"/>
                </a:rPr>
                <a:t>Planejamento Estratégic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Text Box 6"/>
            <p:cNvSpPr/>
            <p:nvPr/>
          </p:nvSpPr>
          <p:spPr>
            <a:xfrm>
              <a:off x="2845080" y="4156560"/>
              <a:ext cx="16534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 Narrow"/>
                </a:rPr>
                <a:t>Objetivo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Text Box 7"/>
            <p:cNvSpPr/>
            <p:nvPr/>
          </p:nvSpPr>
          <p:spPr>
            <a:xfrm>
              <a:off x="2225520" y="4889880"/>
              <a:ext cx="32040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 Narrow"/>
                </a:rPr>
                <a:t>Fatores Críticos de Sucess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Text Box 8"/>
            <p:cNvSpPr/>
            <p:nvPr/>
          </p:nvSpPr>
          <p:spPr>
            <a:xfrm>
              <a:off x="2225520" y="5951880"/>
              <a:ext cx="320400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 Narrow"/>
                </a:rPr>
                <a:t>Indicadores de Desempenh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Text Box 9"/>
            <p:cNvSpPr/>
            <p:nvPr/>
          </p:nvSpPr>
          <p:spPr>
            <a:xfrm>
              <a:off x="5946840" y="5380560"/>
              <a:ext cx="1862280" cy="398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0000"/>
                  </a:solidFill>
                  <a:latin typeface="Arial Narrow"/>
                </a:rPr>
                <a:t>Plano de Açã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Rectangle 10"/>
            <p:cNvSpPr/>
            <p:nvPr/>
          </p:nvSpPr>
          <p:spPr>
            <a:xfrm>
              <a:off x="990720" y="3048120"/>
              <a:ext cx="7238880" cy="342900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AutoShape 11"/>
            <p:cNvSpPr/>
            <p:nvPr/>
          </p:nvSpPr>
          <p:spPr>
            <a:xfrm>
              <a:off x="3569040" y="3828240"/>
              <a:ext cx="206640" cy="244800"/>
            </a:xfrm>
            <a:prstGeom prst="downArrow">
              <a:avLst>
                <a:gd name="adj1" fmla="val 50000"/>
                <a:gd name="adj2" fmla="val 2961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AutoShape 12"/>
            <p:cNvSpPr/>
            <p:nvPr/>
          </p:nvSpPr>
          <p:spPr>
            <a:xfrm>
              <a:off x="3569040" y="4563360"/>
              <a:ext cx="206640" cy="244800"/>
            </a:xfrm>
            <a:prstGeom prst="downArrow">
              <a:avLst>
                <a:gd name="adj1" fmla="val 50000"/>
                <a:gd name="adj2" fmla="val 29617"/>
              </a:avLst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AutoShape 13"/>
            <p:cNvSpPr/>
            <p:nvPr/>
          </p:nvSpPr>
          <p:spPr>
            <a:xfrm flipH="1" rot="5400000">
              <a:off x="4007160" y="4239000"/>
              <a:ext cx="571320" cy="2688480"/>
            </a:xfrm>
            <a:prstGeom prst="pie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3" dur="indefinite" restart="never" nodeType="tmRoot">
          <p:childTnLst>
            <p:seq>
              <p:cTn id="174" dur="indefinite" nodeType="mainSeq">
                <p:childTnLst>
                  <p:par>
                    <p:cTn id="175" fill="hold">
                      <p:stCondLst>
                        <p:cond delay="0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D0D444-6B23-421B-B118-768AC44C88CA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ffffff"/>
                </a:solidFill>
                <a:latin typeface="Arial"/>
              </a:rPr>
              <a:t>AVALIAÇÃO DE DESEMPENH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9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Arial"/>
              </a:rPr>
              <a:t>O Modelo do Processo de Controle em 6 Etapas e a Definição de Indicad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1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Etapa: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Definição das Variáveis-Chaves: a partir da análise dos fatores críticos de sucesso devem ser definidas as variáveis-chaves que explicitam o que deverá ser control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0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0C5CDF-6D3C-4260-B15A-17F11D938E14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ffffff"/>
                </a:solidFill>
                <a:latin typeface="Arial"/>
              </a:rPr>
              <a:t>AVALIAÇÃO DE DESEMPENH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2" name=""/>
          <p:cNvSpPr txBox="1"/>
          <p:nvPr/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2</a:t>
            </a:r>
            <a:r>
              <a:rPr b="0" i="1" lang="pt-BR" sz="24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a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Etapa: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  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Definição do que será medido (indicadores de desempenho)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Arial"/>
              </a:rPr>
              <a:t>primeiramente deve ser definido o que se deseja controlar, ou seja, a variável-chav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A variável-chave refere-se a um aspecto ou característica teórica que se considera como sendo relevante para assegurar o êxito de uma organizaçã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Em outras palavras, trata-se do fator a ser controlado para monitorar se o sucesso está ou não sendo alcançado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O indicador de desempenho, definido na 2</a:t>
            </a:r>
            <a:r>
              <a:rPr b="0" lang="pt-BR" sz="1800" spc="-1" strike="noStrike" baseline="30000">
                <a:solidFill>
                  <a:srgbClr val="000000"/>
                </a:solidFill>
                <a:latin typeface="Arial"/>
                <a:ea typeface="Arial"/>
              </a:rPr>
              <a:t>a</a:t>
            </a: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Arial"/>
              </a:rPr>
              <a:t> etapa,  é prático. Trata-se de um instrumento empírico que permite representar a dimensão teórica de uma variável-chav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fill="hold">
                      <p:stCondLst>
                        <p:cond delay="0"/>
                      </p:stCondLst>
                      <p:childTnLst>
                        <p:par>
                          <p:cTn id="192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5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6" dur="5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A0CD2C-D472-4B2C-84E1-AF6E89DBEFCC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ffffff"/>
                </a:solidFill>
                <a:latin typeface="Arial"/>
              </a:rPr>
              <a:t>AVALIAÇÃO DE DESEMPENH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3</a:t>
            </a:r>
            <a:r>
              <a:rPr b="0" i="1" lang="pt-BR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a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tapa: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Definição de padrões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nesta etapa são definidos os padrões e metas, ou seja, os valores estabelecidos como referência para análise das medidas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Independentemente de serem assumidos padrões internos (como ocorre num sistema de custo-padrão) ou de serem trazidos valores de seu ecossistema (através de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nchmarking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ou de índices macroeconômicos), esta etapa deve deixar claro como tais informações serão obtidas.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0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65D5E8-5AED-4375-ABE4-C7C2641C350C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ffffff"/>
                </a:solidFill>
                <a:latin typeface="Arial"/>
              </a:rPr>
              <a:t>AVALIAÇÃO DE DESEMPENH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8" name=""/>
          <p:cNvSpPr txBox="1"/>
          <p:nvPr/>
        </p:nvSpPr>
        <p:spPr>
          <a:xfrm>
            <a:off x="685800" y="1980720"/>
            <a:ext cx="77724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4</a:t>
            </a:r>
            <a:r>
              <a:rPr b="0" i="1" lang="pt-BR" sz="26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a </a:t>
            </a:r>
            <a:r>
              <a:rPr b="0" i="1" lang="pt-BR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Etapa: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pt-BR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Mensuração</a:t>
            </a:r>
            <a:r>
              <a:rPr b="0" lang="pt-BR" sz="2600" spc="-1" strike="noStrike">
                <a:solidFill>
                  <a:srgbClr val="000000"/>
                </a:solidFill>
                <a:latin typeface="Arial"/>
                <a:ea typeface="Times New Roman"/>
              </a:rPr>
              <a:t>:  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essa etapa tem seu grau de dificuldade inversamente proporcional à qualidade dos sistemas de informação utilizad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Quando são usados sistemas de informação formais projetados com adequadas tecnologias de informática, empregadas principalmente na automação dos apontamentos dos valores medidos, o processo é bastante simplificado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Uma boa definição das variáveis-chaves facilita a composição do quadro de indicadores, assim como o projeto do sistema de informação que deverá possibilitar sua mensuração periódica</a:t>
            </a:r>
            <a:r>
              <a:rPr b="0" lang="pt-BR" sz="2000" spc="-1" strike="noStrike">
                <a:solidFill>
                  <a:srgbClr val="000000"/>
                </a:solidFill>
                <a:latin typeface="Comic Sans MS"/>
                <a:ea typeface="Times New Roman"/>
              </a:rPr>
              <a:t>.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5" dur="indefinite" restart="never" nodeType="tmRoot">
          <p:childTnLst>
            <p:seq>
              <p:cTn id="206" dur="indefinite" nodeType="mainSeq">
                <p:childTnLst>
                  <p:par>
                    <p:cTn id="207" fill="hold">
                      <p:stCondLst>
                        <p:cond delay="0"/>
                      </p:stCondLst>
                      <p:childTnLst>
                        <p:par>
                          <p:cTn id="208" fill="hold">
                            <p:stCondLst>
                              <p:cond delay="0"/>
                            </p:stCondLst>
                            <p:childTnLst>
                              <p:par>
                                <p:cTn id="20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3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23A5D-D07D-425F-AC6A-6045C35DEE45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ffffff"/>
                </a:solidFill>
                <a:latin typeface="Arial"/>
              </a:rPr>
              <a:t>AVALIAÇÃO DE DESEMPENH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1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5</a:t>
            </a:r>
            <a:r>
              <a:rPr b="0" i="1" lang="pt-BR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a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tap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valiação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nessa etapa é realizada a análise do confronto entre o medido e os padrõ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6</a:t>
            </a:r>
            <a:r>
              <a:rPr b="0" i="1" lang="pt-BR" sz="2800" spc="-1" strike="noStrike" baseline="30000">
                <a:solidFill>
                  <a:srgbClr val="000000"/>
                </a:solidFill>
                <a:latin typeface="Arial"/>
                <a:ea typeface="Times New Roman"/>
              </a:rPr>
              <a:t>a </a:t>
            </a:r>
            <a:r>
              <a:rPr b="0" i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Etapa: </a:t>
            </a: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Ação corretiva</a:t>
            </a:r>
            <a:r>
              <a:rPr b="0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: nessa etapa são implantados os planos de ação (corretivos ou de aprendizagem positiva). O processo de execução ou os próprios objetivos podem ser corrigi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0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C2778-447F-4D2E-BDDC-F9B2BCD071F3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ffffff"/>
                </a:solidFill>
                <a:latin typeface="Arial"/>
              </a:rPr>
              <a:t>AVALIAÇÃO DE DESEMPENH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      </a:t>
            </a: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Escolha do Conjunto de Indicadores  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A escolha dos indicadores, que comporão o conjunto equilibrado de medidas, deve considerar alguns critérios pragmátic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1" dur="indefinite" restart="never" nodeType="tmRoot">
          <p:childTnLst>
            <p:seq>
              <p:cTn id="222" dur="indefinite" nodeType="mainSeq">
                <p:childTnLst>
                  <p:par>
                    <p:cTn id="223" fill="hold">
                      <p:stCondLst>
                        <p:cond delay="0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3F348-F620-473A-99FB-45AE363F009F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ffffff"/>
                </a:solidFill>
                <a:latin typeface="Arial"/>
              </a:rPr>
              <a:t>AVALIAÇÃO DE DESEMPENH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7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ritério 1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: Relevância do Indicado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 número de indicadores deve ser de tamanho ideal para que o foco seja mantido. Em geral, após uma listagem inicial de vários indicadores, deverão ser priorizados aqueles que comporão o painel de controle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No conjunto de medidas selecionadas, geralmente, são mantidas as medidas financeiras e outras com as quais a organização está habituada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800" spc="-1" strike="noStrike">
                <a:solidFill>
                  <a:srgbClr val="000000"/>
                </a:solidFill>
                <a:latin typeface="Arial"/>
                <a:ea typeface="Times New Roman"/>
              </a:rPr>
              <a:t>O time de desenvolvimento do SCD envidará esforços para incluir no conjunto de medidas todas aquelas que controlam a consecução das metas derivadas da estratégia de negóci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9" dur="indefinite" restart="never" nodeType="tmRoot">
          <p:childTnLst>
            <p:seq>
              <p:cTn id="230" dur="indefinite" nodeType="mainSeq">
                <p:childTnLst>
                  <p:par>
                    <p:cTn id="231" fill="hold">
                      <p:stCondLst>
                        <p:cond delay="0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5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6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22EAD-9644-4FA2-B7BD-D275118AF702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ffffff"/>
                </a:solidFill>
                <a:latin typeface="Arial"/>
              </a:rPr>
              <a:t>ESTRATÉGIA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Linhas de Pensamento (Mintzberg, 1999) – vejamos as principais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Desing Scholl (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onhecida análise SWO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lanning Scholl (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check lists, análises operacionais e planos de ação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ositioning Scholl (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posições genéricas selecionadas – Porter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A8C976-A312-4BAA-8616-65F8B7C8CCB6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ffffff"/>
                </a:solidFill>
                <a:latin typeface="Arial"/>
              </a:rPr>
              <a:t>AVALIAÇÃO DE DESEMPENH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685800" y="175248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Critério 2: Ausência de Ambigüida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definição do indicador deve ser isenta de ambigüidades. Quando o indicador for definido como um índice, deve ser clara a sua fórmula de cálculo. Pode ser tomado como exemplo um dos indicadores definidos pela Anatel, trata-se do índice de reclamação de cobertura e congestionamento pelo número de telefones celulares instalados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= (A+B)/C,  onde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= Nº de reclamações de cobertura no mê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B= Nº de reclamações de congestionamento no mês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C= Nº de telefones celulares instalados no mês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7" dur="indefinite" restart="never" nodeType="tmRoot">
          <p:childTnLst>
            <p:seq>
              <p:cTn id="238" dur="indefinite" nodeType="mainSeq">
                <p:childTnLst>
                  <p:par>
                    <p:cTn id="239" fill="hold">
                      <p:stCondLst>
                        <p:cond delay="0"/>
                      </p:stCondLst>
                      <p:childTnLst>
                        <p:par>
                          <p:cTn id="240" fill="hold">
                            <p:stCondLst>
                              <p:cond delay="0"/>
                            </p:stCondLst>
                            <p:childTnLst>
                              <p:par>
                                <p:cTn id="24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0E42B7-DA22-4D4D-9C75-27A66048ED5A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ffffff"/>
                </a:solidFill>
                <a:latin typeface="Arial"/>
              </a:rPr>
              <a:t>AVALIAÇÃO DE DESEMPENH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3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Critério 3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:  Neutralidade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lgumas empresas opõem-se fortemente ao uso de informações obtidas através de respostas de clientes e de empregados, argumentando que tais fontes possuem excessivo nível de subjetividade; outras empresas usam tais informações, desde que sua obtenção e agregação sejam feitas de maneira consistent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fill="hold">
                      <p:stCondLst>
                        <p:cond delay="0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56BD1F-6B51-4839-BC1E-FBC3DE63321F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ffffff"/>
                </a:solidFill>
                <a:latin typeface="Arial"/>
              </a:rPr>
              <a:t>AVALIAÇÃO DE DESEMPENH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6" name=""/>
          <p:cNvSpPr txBox="1"/>
          <p:nvPr/>
        </p:nvSpPr>
        <p:spPr>
          <a:xfrm>
            <a:off x="685800" y="19807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ritério 4:  Uso de Indicadores de Atividad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 maioria das abordagens  de definição de SCD permitem a inclusão de indicadores de atividades quando os indicadores de resultado forem de difícil obtenção, ou seja, quando não existirem indicadores que possam ser vinculados de forma incontestável aos resultados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Os indicadores  de atividades ou de processos podem sinalizar que será obtida a saída desejada, sendo denominados também de indicadores de tendência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3" dur="indefinite" restart="never" nodeType="tmRoot">
          <p:childTnLst>
            <p:seq>
              <p:cTn id="254" dur="indefinite" nodeType="mainSeq">
                <p:childTnLst>
                  <p:par>
                    <p:cTn id="255" fill="hold">
                      <p:stCondLst>
                        <p:cond delay="0"/>
                      </p:stCondLst>
                      <p:childTnLst>
                        <p:par>
                          <p:cTn id="256" fill="hold">
                            <p:stCondLst>
                              <p:cond delay="0"/>
                            </p:stCondLst>
                            <p:childTnLst>
                              <p:par>
                                <p:cTn id="257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0" dur="500" fill="hold"/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D1B0E4-3425-4368-8146-25CB3A64900A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ffffff"/>
                </a:solidFill>
                <a:latin typeface="Arial"/>
              </a:rPr>
              <a:t>AVALIAÇÃO DE DESEMPENH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9" name=""/>
          <p:cNvSpPr txBox="1"/>
          <p:nvPr/>
        </p:nvSpPr>
        <p:spPr>
          <a:xfrm>
            <a:off x="830160" y="1674360"/>
            <a:ext cx="7483680" cy="4017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O quadro abaixo apresenta exemplos de indicadores de resultado e de indicadores de atividades</a:t>
            </a:r>
            <a:r>
              <a:rPr b="0" lang="pt-BR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0" name=""/>
          <p:cNvGraphicFramePr/>
          <p:nvPr/>
        </p:nvGraphicFramePr>
        <p:xfrm>
          <a:off x="685800" y="2971800"/>
          <a:ext cx="7631280" cy="3535200"/>
        </p:xfrm>
        <a:graphic>
          <a:graphicData uri="http://schemas.openxmlformats.org/drawingml/2006/table">
            <a:tbl>
              <a:tblPr/>
              <a:tblGrid>
                <a:gridCol w="3886200"/>
                <a:gridCol w="3745080"/>
              </a:tblGrid>
              <a:tr h="1072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dores de Resultado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ndicadores de ocorrênci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ndicadores de Atividades ou e Processos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indicadores de tendência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Nº de automóveis produzid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locidade da linha de produção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Índice de retenção de clien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Índice de satisfação dos clien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5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ceita gerada por novos cliente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iclo de desenvolvimento de novos produto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1" dur="indefinite" restart="never" nodeType="tmRoot">
          <p:childTnLst>
            <p:seq>
              <p:cTn id="262" dur="indefinite" nodeType="mainSeq">
                <p:childTnLst>
                  <p:par>
                    <p:cTn id="263" fill="hold">
                      <p:stCondLst>
                        <p:cond delay="0"/>
                      </p:stCondLst>
                      <p:childTnLst>
                        <p:par>
                          <p:cTn id="264" fill="hold">
                            <p:stCondLst>
                              <p:cond delay="0"/>
                            </p:stCondLst>
                            <p:childTnLst>
                              <p:par>
                                <p:cTn id="265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98CA60-1EB9-4B9D-A6B9-5AD23B89842A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ffffff"/>
                </a:solidFill>
                <a:latin typeface="Arial"/>
              </a:rPr>
              <a:t>AVALIAÇÃO DE DESEMPENH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3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 algn="just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Critério 5: Qualidade e Disponibilidade do Indicado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egundo esse critério, a qualidade do indicador é analisada através das seguintes característica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	</a:t>
            </a:r>
            <a:r>
              <a:rPr b="0" lang="pt-BR" sz="2000" spc="-1" strike="noStrike">
                <a:solidFill>
                  <a:srgbClr val="000000"/>
                </a:solidFill>
                <a:latin typeface="Arial"/>
                <a:ea typeface="Times New Roman"/>
              </a:rPr>
              <a:t>acurácia (procedimento de diagnóstico), precisão, clareza, e validade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43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Um nível insatisfatório de qualidade pode causar a rejeição do indicador. Não existe justificativa para a inclusão de indicadores que não estarão periodicamente disponíveis ou cuja acurácia seja suspei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0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23871C-58CE-4CB0-84B1-C83208F34A10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0" y="1197000"/>
          <a:ext cx="8964720" cy="660240"/>
        </p:xfrm>
        <a:graphic>
          <a:graphicData uri="http://schemas.openxmlformats.org/drawingml/2006/table">
            <a:tbl>
              <a:tblPr/>
              <a:tblGrid>
                <a:gridCol w="1143000"/>
                <a:gridCol w="5410080"/>
                <a:gridCol w="2411640"/>
              </a:tblGrid>
              <a:tr h="6602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ritéri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çã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ixo              Alt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00ccff"/>
                    </a:solidFill>
                  </a:tcPr>
                </a:tc>
              </a:tr>
            </a:tbl>
          </a:graphicData>
        </a:graphic>
      </p:graphicFrame>
      <p:graphicFrame>
        <p:nvGraphicFramePr>
          <p:cNvPr id="387" name=""/>
          <p:cNvGraphicFramePr/>
          <p:nvPr/>
        </p:nvGraphicFramePr>
        <p:xfrm>
          <a:off x="0" y="1833480"/>
          <a:ext cx="8964720" cy="5029200"/>
        </p:xfrm>
        <a:graphic>
          <a:graphicData uri="http://schemas.openxmlformats.org/drawingml/2006/table">
            <a:tbl>
              <a:tblPr/>
              <a:tblGrid>
                <a:gridCol w="1158840"/>
                <a:gridCol w="5489640"/>
                <a:gridCol w="461880"/>
                <a:gridCol w="463680"/>
                <a:gridCol w="463320"/>
                <a:gridCol w="463680"/>
                <a:gridCol w="463680"/>
              </a:tblGrid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ponibi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ida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uem tem o dado? Está disponível no momento? Será necessário um novo software para disponibilizá-lo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131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curáci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medida 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é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confi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á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l? 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É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consistente meses ap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ó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s meses? A altera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ç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ão de seus valores refletem altera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ç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ões das atividades a ela relacionadas? Existem ru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í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dos?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recis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Não aritm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é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tica, mas l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ó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gica. Est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á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sendo medido o que necessita ser medido? Est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á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sendo focado o n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í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vel correto de an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á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lise? 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larez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medida 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é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 de f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 Narrow"/>
                          <a:ea typeface="Arial"/>
                        </a:rPr>
                        <a:t>á</a:t>
                      </a: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cil entendimento? Todos os empregados vão entendê-la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alidad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just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2000" spc="-1" strike="noStrike">
                          <a:solidFill>
                            <a:srgbClr val="000000"/>
                          </a:solidFill>
                          <a:latin typeface="Arial"/>
                          <a:ea typeface="Arial"/>
                        </a:rPr>
                        <a:t>A medida traduz o que necessita ser mensurado, ou somente o que pode ser mensurado?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pt-BR" sz="2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9999ff"/>
                    </a:solidFill>
                  </a:tcPr>
                </a:tc>
              </a:tr>
            </a:tbl>
          </a:graphicData>
        </a:graphic>
      </p:graphicFrame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566640" y="313920"/>
            <a:ext cx="7283520" cy="5367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1500" spc="-1" strike="noStrike">
                <a:solidFill>
                  <a:srgbClr val="000000"/>
                </a:solidFill>
                <a:latin typeface="Arial"/>
              </a:rPr>
              <a:t>Check-list para determinação da qualidade e disponibilidade dos indicadores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Line 64"/>
          <p:cNvSpPr/>
          <p:nvPr/>
        </p:nvSpPr>
        <p:spPr>
          <a:xfrm>
            <a:off x="7380360" y="1557360"/>
            <a:ext cx="76176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4376C-E1C5-46B6-A8C6-21B964DA92AE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ffffff"/>
                </a:solidFill>
                <a:latin typeface="Arial"/>
              </a:rPr>
              <a:t>AVALIAÇÃO DE DESEMPENHO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000000"/>
              </a:buClr>
              <a:buSzPct val="8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A medi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ç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ão deve ser focada sobre quatro aspectos b</a:t>
            </a:r>
            <a:r>
              <a:rPr b="1" lang="pt-BR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á</a:t>
            </a:r>
            <a:r>
              <a:rPr b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sic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1)Determinar quais os processos agregam valor o para a empresa e cliente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2)Determinar como uma parte do valor </a:t>
            </a:r>
            <a:r>
              <a:rPr b="0" lang="pt-BR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é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perdida com custos altos, erros, inconsistências, retrabalhos ou treinamento inadequado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3)Reduzindo o tempo necess</a:t>
            </a:r>
            <a:r>
              <a:rPr b="0" lang="pt-BR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á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io para transformar uma entrada numa sa</a:t>
            </a:r>
            <a:r>
              <a:rPr b="0" lang="pt-BR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í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da dados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601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4)Definir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benchmarking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em </a:t>
            </a:r>
            <a:r>
              <a:rPr b="0" lang="pt-BR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á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rea onde o hiato(lacuna) de desempenho </a:t>
            </a:r>
            <a:r>
              <a:rPr b="0" lang="pt-BR" sz="2400" spc="-1" strike="noStrike">
                <a:solidFill>
                  <a:srgbClr val="000000"/>
                </a:solidFill>
                <a:latin typeface="Arial Narrow"/>
                <a:ea typeface="Times New Roman"/>
              </a:rPr>
              <a:t>é</a:t>
            </a:r>
            <a:r>
              <a:rPr b="0" lang="pt-B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 acentu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7" dur="indefinite" restart="never" nodeType="tmRoot">
          <p:childTnLst>
            <p:seq>
              <p:cTn id="278" dur="indefinite" nodeType="mainSeq">
                <p:childTnLst>
                  <p:par>
                    <p:cTn id="279" fill="hold">
                      <p:stCondLst>
                        <p:cond delay="0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3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4E8DE-1F43-466A-B2E8-CE681FBC419D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 txBox="1"/>
          <p:nvPr/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95" name=""/>
          <p:cNvGraphicFramePr/>
          <p:nvPr/>
        </p:nvGraphicFramePr>
        <p:xfrm>
          <a:off x="76320" y="1171440"/>
          <a:ext cx="9067680" cy="5051520"/>
        </p:xfrm>
        <a:graphic>
          <a:graphicData uri="http://schemas.openxmlformats.org/drawingml/2006/table">
            <a:tbl>
              <a:tblPr/>
              <a:tblGrid>
                <a:gridCol w="1076040"/>
                <a:gridCol w="998640"/>
                <a:gridCol w="922320"/>
                <a:gridCol w="844560"/>
                <a:gridCol w="870120"/>
                <a:gridCol w="792000"/>
                <a:gridCol w="647640"/>
                <a:gridCol w="649440"/>
                <a:gridCol w="574560"/>
                <a:gridCol w="505080"/>
                <a:gridCol w="650880"/>
                <a:gridCol w="536400"/>
              </a:tblGrid>
              <a:tr h="933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Área de Process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tens de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empenh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escri-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Unida-de de Medid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enc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king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 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i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ali-z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/B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</a:t>
                      </a:r>
                      <a:r>
                        <a:rPr b="0" i="1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</a:t>
                      </a: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/B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S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7876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inancei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etorno s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P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 / P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%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10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Venda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empo médi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endim. cliente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p.tota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tend 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 atend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13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3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,1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99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tribui-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çã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usto p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ntreg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t.total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ão entr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$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8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12380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RH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.hs.treinam./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Funcio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.hs.treinam/N.funcion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00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pt-BR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16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837720" y="228240"/>
            <a:ext cx="7334280" cy="67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100" spc="-1" strike="noStrike">
                <a:solidFill>
                  <a:srgbClr val="000000"/>
                </a:solidFill>
                <a:latin typeface="Arial"/>
              </a:rPr>
              <a:t>Medidas de Desempenho Organizacional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Oval 84"/>
          <p:cNvSpPr/>
          <p:nvPr/>
        </p:nvSpPr>
        <p:spPr>
          <a:xfrm>
            <a:off x="6372360" y="3068640"/>
            <a:ext cx="380880" cy="72072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Oval 85"/>
          <p:cNvSpPr/>
          <p:nvPr/>
        </p:nvSpPr>
        <p:spPr>
          <a:xfrm>
            <a:off x="6372360" y="2133720"/>
            <a:ext cx="380880" cy="6476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Oval 86"/>
          <p:cNvSpPr/>
          <p:nvPr/>
        </p:nvSpPr>
        <p:spPr>
          <a:xfrm>
            <a:off x="8604360" y="3141720"/>
            <a:ext cx="380880" cy="770040"/>
          </a:xfrm>
          <a:prstGeom prst="ellipse">
            <a:avLst/>
          </a:prstGeom>
          <a:solidFill>
            <a:srgbClr val="cc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Oval 87"/>
          <p:cNvSpPr/>
          <p:nvPr/>
        </p:nvSpPr>
        <p:spPr>
          <a:xfrm>
            <a:off x="8604360" y="2060640"/>
            <a:ext cx="380880" cy="7920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Oval 88"/>
          <p:cNvSpPr/>
          <p:nvPr/>
        </p:nvSpPr>
        <p:spPr>
          <a:xfrm>
            <a:off x="6372360" y="4005360"/>
            <a:ext cx="380880" cy="91440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Oval 89"/>
          <p:cNvSpPr/>
          <p:nvPr/>
        </p:nvSpPr>
        <p:spPr>
          <a:xfrm>
            <a:off x="8604360" y="4076640"/>
            <a:ext cx="380880" cy="792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Oval 90"/>
          <p:cNvSpPr/>
          <p:nvPr/>
        </p:nvSpPr>
        <p:spPr>
          <a:xfrm>
            <a:off x="6443640" y="5157720"/>
            <a:ext cx="380880" cy="792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Oval 91"/>
          <p:cNvSpPr/>
          <p:nvPr/>
        </p:nvSpPr>
        <p:spPr>
          <a:xfrm>
            <a:off x="8604360" y="5084640"/>
            <a:ext cx="380880" cy="792360"/>
          </a:xfrm>
          <a:prstGeom prst="ellipse">
            <a:avLst/>
          </a:prstGeom>
          <a:solidFill>
            <a:srgbClr val="00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Espaço Reservado para Número de Slid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02DDFF-8B20-446E-851F-7B5ADD6966D4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4056"/>
                </a:solidFill>
                <a:latin typeface="Tahoma"/>
              </a:rPr>
              <a:t>Management Cockpi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07" name="Group 3"/>
          <p:cNvGrpSpPr/>
          <p:nvPr/>
        </p:nvGrpSpPr>
        <p:grpSpPr>
          <a:xfrm>
            <a:off x="1219320" y="2057400"/>
            <a:ext cx="6937200" cy="3732120"/>
            <a:chOff x="1219320" y="2057400"/>
            <a:chExt cx="6937200" cy="3732120"/>
          </a:xfrm>
        </p:grpSpPr>
        <p:sp>
          <p:nvSpPr>
            <p:cNvPr id="408" name="Rectangle 4"/>
            <p:cNvSpPr/>
            <p:nvPr/>
          </p:nvSpPr>
          <p:spPr>
            <a:xfrm>
              <a:off x="1219320" y="2057400"/>
              <a:ext cx="6937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Rectangle 5"/>
            <p:cNvSpPr/>
            <p:nvPr/>
          </p:nvSpPr>
          <p:spPr>
            <a:xfrm>
              <a:off x="1219320" y="2057400"/>
              <a:ext cx="6937200" cy="3732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3200" spc="-1" strike="noStrike">
                  <a:solidFill>
                    <a:srgbClr val="004056"/>
                  </a:solidFill>
                  <a:latin typeface="Tahoma"/>
                </a:rPr>
                <a:t>Solução</a:t>
              </a:r>
              <a:br>
                <a:rPr sz="3200"/>
              </a:br>
              <a:r>
                <a:rPr b="0" lang="pt-BR" sz="3200" spc="-1" strike="noStrike">
                  <a:solidFill>
                    <a:srgbClr val="004056"/>
                  </a:solidFill>
                  <a:latin typeface="Tahoma"/>
                </a:rPr>
                <a:t>Utilizar as componentes «Management Cockpit» e «Balanced Scorecard» do SEM (</a:t>
              </a:r>
              <a:r>
                <a:rPr b="0" i="1" lang="pt-BR" sz="3200" spc="-1" strike="noStrike">
                  <a:solidFill>
                    <a:srgbClr val="004056"/>
                  </a:solidFill>
                  <a:latin typeface="Tahoma"/>
                </a:rPr>
                <a:t>Strategic Entreprise Management</a:t>
              </a:r>
              <a:r>
                <a:rPr b="0" lang="pt-BR" sz="3200" spc="-1" strike="noStrike">
                  <a:solidFill>
                    <a:srgbClr val="004056"/>
                  </a:solidFill>
                  <a:latin typeface="Tahoma"/>
                </a:rPr>
                <a:t>), que funcionam com base na ferramenta de Datawarehouse da SAP (BW).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Espaço Reservado para Número de Slid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5578E3-18B0-45E5-B4AB-E8EECCCD9A45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1" name="Picture 2" descr="cockpit2_%20DSC04731-X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5943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31405-9288-483D-894C-232EFC3090E9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900" spc="-1" strike="noStrike">
                <a:solidFill>
                  <a:srgbClr val="ffffff"/>
                </a:solidFill>
                <a:latin typeface="Arial"/>
              </a:rPr>
              <a:t>ESTRATÉGIA</a:t>
            </a:r>
            <a:endParaRPr b="0" lang="en-US" sz="2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Segundo Porter (1985), a empresa alcança uma vantagem competitiva sustentável caso consiga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Menor custo do que a concorrê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Arial"/>
              </a:rPr>
              <a:t>Quando produzir algo diferente (preço </a:t>
            </a:r>
            <a:r>
              <a:rPr b="0" i="1" lang="pt-BR" sz="2400" spc="-1" strike="noStrike">
                <a:solidFill>
                  <a:srgbClr val="000000"/>
                </a:solidFill>
                <a:latin typeface="Arial"/>
              </a:rPr>
              <a:t>premium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Espaço Reservado para Número de Slid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A76972-9E6D-48A1-A688-D5F5ABE86093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4056"/>
                </a:solidFill>
                <a:latin typeface="Tahoma"/>
              </a:rPr>
              <a:t>Management Cockpi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14" name="Group 3"/>
          <p:cNvGrpSpPr/>
          <p:nvPr/>
        </p:nvGrpSpPr>
        <p:grpSpPr>
          <a:xfrm>
            <a:off x="1066680" y="2362320"/>
            <a:ext cx="6937200" cy="641160"/>
            <a:chOff x="1066680" y="2362320"/>
            <a:chExt cx="6937200" cy="641160"/>
          </a:xfrm>
        </p:grpSpPr>
        <p:sp>
          <p:nvSpPr>
            <p:cNvPr id="415" name="Rectangle 4"/>
            <p:cNvSpPr/>
            <p:nvPr/>
          </p:nvSpPr>
          <p:spPr>
            <a:xfrm>
              <a:off x="1066680" y="2362320"/>
              <a:ext cx="6937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Rectangle 5"/>
            <p:cNvSpPr/>
            <p:nvPr/>
          </p:nvSpPr>
          <p:spPr>
            <a:xfrm>
              <a:off x="1066680" y="2362320"/>
              <a:ext cx="6937200" cy="641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200" spc="-1" strike="noStrike">
                  <a:solidFill>
                    <a:srgbClr val="004056"/>
                  </a:solidFill>
                  <a:latin typeface="Tahoma"/>
                </a:rPr>
                <a:t>Os 25 indicadores disponibilizados foram extraídos de diversos sistemas da Bandeirante Energia, nomeadamente do SAP R/3 e dos sistemas técnicos e comerciais da empresa, que trabalham ainda em ambiente mainframe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Espaço Reservado para Número de Slid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7AFDE-82B1-4B4A-8477-0002F43B1653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8" name="Picture 2" descr="cockpit2_DSC04708-X"/>
          <p:cNvPicPr/>
          <p:nvPr/>
        </p:nvPicPr>
        <p:blipFill>
          <a:blip r:embed="rId1"/>
          <a:stretch/>
        </p:blipFill>
        <p:spPr>
          <a:xfrm>
            <a:off x="380880" y="304920"/>
            <a:ext cx="8382240" cy="624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Espaço Reservado para Número de Slid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34A45F-EED3-40DC-944F-6928E95D28EC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4056"/>
                </a:solidFill>
                <a:latin typeface="Tahoma"/>
              </a:rPr>
              <a:t>Management Cockpi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1" name="Group 3"/>
          <p:cNvGrpSpPr/>
          <p:nvPr/>
        </p:nvGrpSpPr>
        <p:grpSpPr>
          <a:xfrm>
            <a:off x="1103400" y="2057400"/>
            <a:ext cx="6937200" cy="733320"/>
            <a:chOff x="1103400" y="2057400"/>
            <a:chExt cx="6937200" cy="733320"/>
          </a:xfrm>
        </p:grpSpPr>
        <p:sp>
          <p:nvSpPr>
            <p:cNvPr id="422" name="Rectangle 4"/>
            <p:cNvSpPr/>
            <p:nvPr/>
          </p:nvSpPr>
          <p:spPr>
            <a:xfrm>
              <a:off x="1103400" y="2057400"/>
              <a:ext cx="6937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Rectangle 5"/>
            <p:cNvSpPr/>
            <p:nvPr/>
          </p:nvSpPr>
          <p:spPr>
            <a:xfrm>
              <a:off x="1103400" y="2057400"/>
              <a:ext cx="6937200" cy="733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3200" spc="-1" strike="noStrike">
                  <a:solidFill>
                    <a:srgbClr val="004056"/>
                  </a:solidFill>
                  <a:latin typeface="Tahoma"/>
                </a:rPr>
                <a:t>Funcionamento</a:t>
              </a:r>
              <a:br>
                <a:rPr sz="3200"/>
              </a:b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4056"/>
                  </a:solidFill>
                  <a:latin typeface="Tahoma"/>
                </a:rPr>
                <a:t>O Management Cockpit é alimentado pela base de informação armazenada no BW, visualizada através das possibilidades analíticas e gráficas do SEM.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4056"/>
                  </a:solidFill>
                  <a:latin typeface="Tahoma"/>
                </a:rPr>
                <a:t>Estas informações ficam disponíveis em qualquer computador ligado à rede corporativa da empresa</a:t>
              </a:r>
              <a:r>
                <a:rPr b="0" lang="pt-BR" sz="3200" spc="-1" strike="noStrike">
                  <a:solidFill>
                    <a:srgbClr val="004056"/>
                  </a:solidFill>
                  <a:latin typeface="Tahoma"/>
                </a:rPr>
                <a:t>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Espaço Reservado para Número de Slid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AAC15E-F281-4E5F-983B-C9E455CE3F05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4056"/>
                </a:solidFill>
                <a:latin typeface="Tahoma"/>
              </a:rPr>
              <a:t>Management Cockpi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26" name="Group 3"/>
          <p:cNvGrpSpPr/>
          <p:nvPr/>
        </p:nvGrpSpPr>
        <p:grpSpPr>
          <a:xfrm>
            <a:off x="609480" y="1828800"/>
            <a:ext cx="8229240" cy="825480"/>
            <a:chOff x="609480" y="1828800"/>
            <a:chExt cx="8229240" cy="825480"/>
          </a:xfrm>
        </p:grpSpPr>
        <p:sp>
          <p:nvSpPr>
            <p:cNvPr id="427" name="Rectangle 4"/>
            <p:cNvSpPr/>
            <p:nvPr/>
          </p:nvSpPr>
          <p:spPr>
            <a:xfrm>
              <a:off x="609480" y="1828800"/>
              <a:ext cx="822924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Rectangle 5"/>
            <p:cNvSpPr/>
            <p:nvPr/>
          </p:nvSpPr>
          <p:spPr>
            <a:xfrm>
              <a:off x="609480" y="1828800"/>
              <a:ext cx="82292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4056"/>
                  </a:solidFill>
                  <a:latin typeface="Tahoma"/>
                </a:rPr>
                <a:t>Na sala do Cockpit, estes indicadores são apresentados de acordo com a seguinte lógica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4056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400" spc="-1" strike="noStrike">
                  <a:solidFill>
                    <a:srgbClr val="004056"/>
                  </a:solidFill>
                  <a:latin typeface="Tahoma"/>
                </a:rPr>
                <a:t> </a:t>
              </a:r>
              <a:r>
                <a:rPr b="0" lang="pt-BR" sz="1800" spc="-1" strike="noStrike">
                  <a:solidFill>
                    <a:srgbClr val="004056"/>
                  </a:solidFill>
                  <a:latin typeface="Tahoma"/>
                </a:rPr>
                <a:t>de frente para quem entra na sala está uma parede preta (Financeira), que reflete os resultados da empresa e aponta os principais obstáculos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4056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4056"/>
                  </a:solidFill>
                  <a:latin typeface="Tahoma"/>
                </a:rPr>
                <a:t> </a:t>
              </a:r>
              <a:r>
                <a:rPr b="0" lang="pt-BR" sz="1800" spc="-1" strike="noStrike">
                  <a:solidFill>
                    <a:srgbClr val="004056"/>
                  </a:solidFill>
                  <a:latin typeface="Tahoma"/>
                </a:rPr>
                <a:t>do lado direito, a parede vermelha (Clientes e Mercado) aponta a posição da Bandeirante em relação ao mercado;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4056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4056"/>
                  </a:solidFill>
                  <a:latin typeface="Tahoma"/>
                </a:rPr>
                <a:t> </a:t>
              </a:r>
              <a:r>
                <a:rPr b="0" lang="pt-BR" sz="1800" spc="-1" strike="noStrike">
                  <a:solidFill>
                    <a:srgbClr val="004056"/>
                  </a:solidFill>
                  <a:latin typeface="Tahoma"/>
                </a:rPr>
                <a:t>à esquerda, a parede Azul (Recursos Internos/Processos) exibe índices administrativos internos; e, por fim, 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buClr>
                  <a:srgbClr val="004056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1800" spc="-1" strike="noStrike">
                  <a:solidFill>
                    <a:srgbClr val="004056"/>
                  </a:solidFill>
                  <a:latin typeface="Tahoma"/>
                </a:rPr>
                <a:t> </a:t>
              </a:r>
              <a:r>
                <a:rPr b="0" lang="pt-BR" sz="1800" spc="-1" strike="noStrike">
                  <a:solidFill>
                    <a:srgbClr val="004056"/>
                  </a:solidFill>
                  <a:latin typeface="Tahoma"/>
                </a:rPr>
                <a:t>a restante parede branca (Aprendizado e Crescimento) reflete as perspectivas de crescimento.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Espaço Reservado para Número de Slide 3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88AA08-F798-461B-84DB-19ADFFC3699B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0" name="Picture 2" descr="cocpit"/>
          <p:cNvPicPr/>
          <p:nvPr/>
        </p:nvPicPr>
        <p:blipFill>
          <a:blip r:embed="rId1"/>
          <a:stretch/>
        </p:blipFill>
        <p:spPr>
          <a:xfrm>
            <a:off x="304920" y="304920"/>
            <a:ext cx="8534160" cy="6172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Espaço Reservado para Número de Slid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4E3770-0829-43BE-89C8-9BC35D1F747F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4056"/>
                </a:solidFill>
                <a:latin typeface="Tahoma"/>
              </a:rPr>
              <a:t>Management Cockpi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3" name="Group 3"/>
          <p:cNvGrpSpPr/>
          <p:nvPr/>
        </p:nvGrpSpPr>
        <p:grpSpPr>
          <a:xfrm>
            <a:off x="1103400" y="2438280"/>
            <a:ext cx="6937200" cy="549360"/>
            <a:chOff x="1103400" y="2438280"/>
            <a:chExt cx="6937200" cy="549360"/>
          </a:xfrm>
        </p:grpSpPr>
        <p:sp>
          <p:nvSpPr>
            <p:cNvPr id="434" name="Rectangle 4"/>
            <p:cNvSpPr/>
            <p:nvPr/>
          </p:nvSpPr>
          <p:spPr>
            <a:xfrm>
              <a:off x="1103400" y="2438280"/>
              <a:ext cx="6937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Rectangle 5"/>
            <p:cNvSpPr/>
            <p:nvPr/>
          </p:nvSpPr>
          <p:spPr>
            <a:xfrm>
              <a:off x="1103400" y="2438280"/>
              <a:ext cx="6937200" cy="549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200" spc="-1" strike="noStrike">
                  <a:solidFill>
                    <a:srgbClr val="004056"/>
                  </a:solidFill>
                  <a:latin typeface="Tahoma"/>
                </a:rPr>
                <a:t>Os indicadores são ainda disponibilizados on-line, num dos cantos da sala, através de um conjunto de seis ecrãs interligados, designados por "Flight Deck".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Espaço Reservado para Número de Slid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0FFF48-2C07-4A5C-8C9A-B030A8EBCC5F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4056"/>
                </a:solidFill>
                <a:latin typeface="Tahoma"/>
              </a:rPr>
              <a:t>Management Cockpi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38" name="Group 3"/>
          <p:cNvGrpSpPr/>
          <p:nvPr/>
        </p:nvGrpSpPr>
        <p:grpSpPr>
          <a:xfrm>
            <a:off x="380880" y="1905120"/>
            <a:ext cx="8223120" cy="947520"/>
            <a:chOff x="380880" y="1905120"/>
            <a:chExt cx="8223120" cy="947520"/>
          </a:xfrm>
        </p:grpSpPr>
        <p:sp>
          <p:nvSpPr>
            <p:cNvPr id="439" name="Rectangle 4"/>
            <p:cNvSpPr/>
            <p:nvPr/>
          </p:nvSpPr>
          <p:spPr>
            <a:xfrm>
              <a:off x="380880" y="1905120"/>
              <a:ext cx="822312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Rectangle 5"/>
            <p:cNvSpPr/>
            <p:nvPr/>
          </p:nvSpPr>
          <p:spPr>
            <a:xfrm>
              <a:off x="380880" y="1905120"/>
              <a:ext cx="8223120" cy="94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pt-BR" sz="2400" spc="-1" strike="noStrike">
                  <a:solidFill>
                    <a:srgbClr val="004056"/>
                  </a:solidFill>
                  <a:latin typeface="Tahoma"/>
                </a:rPr>
                <a:t>Benefícios</a:t>
              </a:r>
              <a:br>
                <a:rPr sz="2400"/>
              </a:br>
              <a:r>
                <a:rPr b="0" lang="pt-BR" sz="2400" spc="-1" strike="noStrike">
                  <a:solidFill>
                    <a:srgbClr val="004056"/>
                  </a:solidFill>
                  <a:latin typeface="Tahoma"/>
                </a:rPr>
                <a:t>As vantagens do novo sistema são visíveis na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br>
                <a:rPr sz="2400"/>
              </a:b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4056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4056"/>
                  </a:solidFill>
                  <a:latin typeface="Tahoma"/>
                </a:rPr>
                <a:t>Fácil visualização dos principais índices da empresa </a:t>
              </a:r>
              <a:br>
                <a:rPr sz="2000"/>
              </a:br>
              <a:r>
                <a:rPr b="0" lang="pt-BR" sz="2000" spc="-1" strike="noStrike">
                  <a:solidFill>
                    <a:srgbClr val="004056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4056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4056"/>
                  </a:solidFill>
                  <a:latin typeface="Tahoma"/>
                </a:rPr>
                <a:t>Rápida avaliação e revisão de resultados </a:t>
              </a:r>
              <a:br>
                <a:rPr sz="2000"/>
              </a:br>
              <a:r>
                <a:rPr b="0" lang="pt-BR" sz="2000" spc="-1" strike="noStrike">
                  <a:solidFill>
                    <a:srgbClr val="004056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4056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4056"/>
                  </a:solidFill>
                  <a:latin typeface="Tahoma"/>
                </a:rPr>
                <a:t>Análise concreta de eventuais desajustes </a:t>
              </a:r>
              <a:br>
                <a:rPr sz="2000"/>
              </a:br>
              <a:r>
                <a:rPr b="0" lang="pt-BR" sz="2000" spc="-1" strike="noStrike">
                  <a:solidFill>
                    <a:srgbClr val="004056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4056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4056"/>
                  </a:solidFill>
                  <a:latin typeface="Tahoma"/>
                </a:rPr>
                <a:t>Tomada rápida e eficaz de ações corretivas </a:t>
              </a:r>
              <a:br>
                <a:rPr sz="2000"/>
              </a:br>
              <a:r>
                <a:rPr b="0" lang="pt-BR" sz="2000" spc="-1" strike="noStrike">
                  <a:solidFill>
                    <a:srgbClr val="004056"/>
                  </a:solidFill>
                  <a:latin typeface="Tahoma"/>
                </a:rPr>
                <a:t> 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4056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2000" spc="-1" strike="noStrike">
                  <a:solidFill>
                    <a:srgbClr val="004056"/>
                  </a:solidFill>
                  <a:latin typeface="Tahoma"/>
                </a:rPr>
                <a:t>Gestão e medição de desempenho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Espaço Reservado para Número de Slide 4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D19FC-2257-4D5C-91D8-9D1C2260AAB7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4200" spc="-1" strike="noStrike">
                <a:solidFill>
                  <a:srgbClr val="004056"/>
                </a:solidFill>
                <a:latin typeface="Tahoma"/>
              </a:rPr>
              <a:t>Management Cockpit</a:t>
            </a:r>
            <a:endParaRPr b="0" lang="en-US" sz="42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43" name="Group 3"/>
          <p:cNvGrpSpPr/>
          <p:nvPr/>
        </p:nvGrpSpPr>
        <p:grpSpPr>
          <a:xfrm>
            <a:off x="1103400" y="2209680"/>
            <a:ext cx="6937200" cy="1469880"/>
            <a:chOff x="1103400" y="2209680"/>
            <a:chExt cx="6937200" cy="1469880"/>
          </a:xfrm>
        </p:grpSpPr>
        <p:sp>
          <p:nvSpPr>
            <p:cNvPr id="444" name="Rectangle 4"/>
            <p:cNvSpPr/>
            <p:nvPr/>
          </p:nvSpPr>
          <p:spPr>
            <a:xfrm>
              <a:off x="1103400" y="2209680"/>
              <a:ext cx="6937200" cy="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Rectangle 5"/>
            <p:cNvSpPr/>
            <p:nvPr/>
          </p:nvSpPr>
          <p:spPr>
            <a:xfrm>
              <a:off x="1103400" y="2209680"/>
              <a:ext cx="6937200" cy="146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200" spc="-1" strike="noStrike">
                  <a:solidFill>
                    <a:srgbClr val="004056"/>
                  </a:solidFill>
                  <a:latin typeface="Tahoma"/>
                </a:rPr>
                <a:t>O que resulta em: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4056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200" spc="-1" strike="noStrike">
                  <a:solidFill>
                    <a:srgbClr val="004056"/>
                  </a:solidFill>
                  <a:latin typeface="Tahoma"/>
                </a:rPr>
                <a:t>Execução de uma estratégia integrada </a:t>
              </a:r>
              <a:br>
                <a:rPr sz="3200"/>
              </a:br>
              <a:r>
                <a:rPr b="0" lang="pt-BR" sz="3200" spc="-1" strike="noStrike">
                  <a:solidFill>
                    <a:srgbClr val="004056"/>
                  </a:solidFill>
                  <a:latin typeface="Tahoma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4056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200" spc="-1" strike="noStrike">
                  <a:solidFill>
                    <a:srgbClr val="004056"/>
                  </a:solidFill>
                  <a:latin typeface="Tahoma"/>
                </a:rPr>
                <a:t>Aceleração dos processos de trabalho </a:t>
              </a:r>
              <a:br>
                <a:rPr sz="3200"/>
              </a:br>
              <a:r>
                <a:rPr b="0" lang="pt-BR" sz="3200" spc="-1" strike="noStrike">
                  <a:solidFill>
                    <a:srgbClr val="004056"/>
                  </a:solidFill>
                  <a:latin typeface="Tahoma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457200">
                <a:lnSpc>
                  <a:spcPct val="100000"/>
                </a:lnSpc>
                <a:buClr>
                  <a:srgbClr val="004056"/>
                </a:buClr>
                <a:buFont typeface="Tahoma"/>
                <a:buChar char="•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pt-BR" sz="3200" spc="-1" strike="noStrike">
                  <a:solidFill>
                    <a:srgbClr val="004056"/>
                  </a:solidFill>
                  <a:latin typeface="Tahoma"/>
                </a:rPr>
                <a:t>Aumento de competitividade</a:t>
              </a:r>
              <a:br>
                <a:rPr sz="3200"/>
              </a:br>
              <a:r>
                <a:rPr b="0" lang="pt-BR" sz="3200" spc="-1" strike="noStrike">
                  <a:solidFill>
                    <a:srgbClr val="004056"/>
                  </a:solidFill>
                  <a:latin typeface="Tahoma"/>
                </a:rPr>
                <a:t> </a:t>
              </a:r>
              <a:endParaRPr b="0" lang="en-US" sz="3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440A3-EE7D-4C37-9514-F36437E0DF3D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Referências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ILES, R.; SNOW, C.</a:t>
            </a:r>
            <a:r>
              <a:rPr b="0" i="1" lang="pt-BR" sz="1400" spc="-1" strike="noStrike">
                <a:solidFill>
                  <a:srgbClr val="000000"/>
                </a:solidFill>
                <a:latin typeface="Arial"/>
              </a:rPr>
              <a:t> Organization strategy: structure and process.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New York: McGraw Hill, 1978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INTZBERG, H.; JOSEPH, L. </a:t>
            </a:r>
            <a:r>
              <a:rPr b="0" i="1" lang="pt-BR" sz="1400" spc="-1" strike="noStrike">
                <a:solidFill>
                  <a:srgbClr val="000000"/>
                </a:solidFill>
                <a:latin typeface="Arial"/>
              </a:rPr>
              <a:t>Refleting on the strategy process.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Sloan Management Review, Spring, 1999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__________, H.; AHLSTRAND, Bruce; LAMPEL, Joseph. Safári de estratégia. Porto Alegre: Bookmann, 2002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MORAIS, Roberto Tadeu Ramos. Planejamento estratégico: um bem ou mal necessário? Rio de Janeiro: Fundo de Cultura, 200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ORTER, Michael. Estratégia competitiva: técnicas para análise da indústria e da concorrência. Rio de Janeiro: Campus, 1980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_______, Michael. </a:t>
            </a:r>
            <a:r>
              <a:rPr b="0" i="1" lang="pt-BR" sz="1400" spc="-1" strike="noStrike">
                <a:solidFill>
                  <a:srgbClr val="000000"/>
                </a:solidFill>
                <a:latin typeface="Arial"/>
              </a:rPr>
              <a:t>Competitive advantage: creating and sustaining competitive performance. </a:t>
            </a: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New York: The Free Press, 198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400" spc="-1" strike="noStrike">
                <a:solidFill>
                  <a:srgbClr val="000000"/>
                </a:solidFill>
                <a:latin typeface="Arial"/>
              </a:rPr>
              <a:t>PRAHALAD, C.K.; HAMEL, G. Competindo pelo futuro: estratégias inovadoras para obter o controle do seu setor e criar os mercados de amanhã. Rio de Janeiro: Campus, 1995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Espaço Reservado para Número de Slide 5"/>
          <p:cNvSpPr/>
          <p:nvPr/>
        </p:nvSpPr>
        <p:spPr>
          <a:xfrm>
            <a:off x="655308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8C678-E6BC-44C3-A69B-31AB37237BB0}" type="slidenum">
              <a:rPr b="0" lang="pt-BR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1"/>
          <p:cNvSpPr>
            <a:spLocks noGrp="1"/>
          </p:cNvSpPr>
          <p:nvPr>
            <p:ph type="title"/>
          </p:nvPr>
        </p:nvSpPr>
        <p:spPr>
          <a:xfrm>
            <a:off x="194760" y="228600"/>
            <a:ext cx="80154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500" spc="-1" strike="noStrike">
                <a:solidFill>
                  <a:srgbClr val="ffffff"/>
                </a:solidFill>
                <a:latin typeface="Arial"/>
              </a:rPr>
              <a:t>MUITO OBRIGADO!</a:t>
            </a:r>
            <a:endParaRPr b="0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92504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996666"/>
              </a:buClr>
              <a:buSzPct val="8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Prof.º Roberto Morais, D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(51) 8118334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>
                <a:solidFill>
                  <a:srgbClr val="000000"/>
                </a:solidFill>
                <a:latin typeface="Arial"/>
              </a:rPr>
              <a:t>(51) 35416657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99ccff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800" spc="-1" strike="noStrike" u="sng">
                <a:solidFill>
                  <a:srgbClr val="996666"/>
                </a:solidFill>
                <a:uFillTx/>
                <a:latin typeface="Arial"/>
                <a:hlinkClick r:id="rId1"/>
              </a:rPr>
              <a:t>posgrad@faccat.b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3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0T13:42:19Z</dcterms:created>
  <dc:creator>roberto</dc:creator>
  <dc:description/>
  <dc:language>en-US</dc:language>
  <cp:lastModifiedBy>Usuario</cp:lastModifiedBy>
  <dcterms:modified xsi:type="dcterms:W3CDTF">2009-09-06T23:53:14Z</dcterms:modified>
  <cp:revision>96</cp:revision>
  <dc:subject/>
  <dc:title>Unoesc – Campus Xanxerê MBA em Gestão Financeira e Estratégica</dc:title>
</cp:coreProperties>
</file>